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49423-7CCA-4910-951A-5D1CFECC3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8F96-5137-4084-A8D0-8B12E15A4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E567-0D62-4961-A9D8-14E75066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9E6C9-BB26-4492-84F8-D65CEDF14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7C01-2126-4549-BAE1-53769D310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D64A-D125-424F-AE61-0274D262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E141-D9CA-4775-A902-F68A84A8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E420-1D75-4CBE-B811-FC10450F0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6900-020E-4FB0-A426-45815E936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F25AA-4964-49B3-BD84-4573A1207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1008-F521-4108-A626-60A7541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3854-EE21-4994-97D8-527AB43DB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50BF0-BA86-492D-AAD5-597FE1F555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602" r="0" b="9764"/>
          <a:stretch/>
        </p:blipFill>
        <p:spPr>
          <a:xfrm>
            <a:off x="0" y="4670280"/>
            <a:ext cx="6858000" cy="4473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736560" y="731880"/>
            <a:ext cx="5299200" cy="38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iovedi 16 marzo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RSO DI FORMAZIONE  FOPAGS-V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uolo dei genitori eletti. Opportunità della legge sull’autonomia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R. CAPALDO NUNZI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0" r="0" b="13075"/>
          <a:stretch/>
        </p:blipFill>
        <p:spPr>
          <a:xfrm>
            <a:off x="0" y="0"/>
            <a:ext cx="6858000" cy="4338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4" name="" descr=""/>
          <p:cNvPicPr/>
          <p:nvPr/>
        </p:nvPicPr>
        <p:blipFill>
          <a:blip r:embed="rId2"/>
          <a:srcRect l="0" t="0" r="0" b="10880"/>
          <a:stretch/>
        </p:blipFill>
        <p:spPr>
          <a:xfrm>
            <a:off x="0" y="4695840"/>
            <a:ext cx="6858000" cy="4448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0" r="0" b="10875"/>
          <a:stretch/>
        </p:blipFill>
        <p:spPr>
          <a:xfrm>
            <a:off x="0" y="0"/>
            <a:ext cx="6858000" cy="44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2"/>
          <a:srcRect l="0" t="0" r="0" b="10875"/>
          <a:stretch/>
        </p:blipFill>
        <p:spPr>
          <a:xfrm>
            <a:off x="0" y="4694400"/>
            <a:ext cx="6858000" cy="4449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0" b="11450"/>
          <a:stretch/>
        </p:blipFill>
        <p:spPr>
          <a:xfrm>
            <a:off x="0" y="0"/>
            <a:ext cx="6858000" cy="44211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" descr=""/>
          <p:cNvPicPr/>
          <p:nvPr/>
        </p:nvPicPr>
        <p:blipFill>
          <a:blip r:embed="rId2"/>
          <a:srcRect l="0" t="0" r="0" b="9328"/>
          <a:stretch/>
        </p:blipFill>
        <p:spPr>
          <a:xfrm>
            <a:off x="0" y="4618080"/>
            <a:ext cx="685800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08:36:41Z</dcterms:created>
  <dc:creator>Piera Cattaneo</dc:creator>
  <dc:description/>
  <dc:language>en-US</dc:language>
  <cp:lastModifiedBy>Piera Cattaneo</cp:lastModifiedBy>
  <dcterms:modified xsi:type="dcterms:W3CDTF">2006-04-06T08:48:38Z</dcterms:modified>
  <cp:revision>3</cp:revision>
  <dc:subject/>
  <dc:title>Diapositiva 1</dc:title>
</cp:coreProperties>
</file>