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media/image6.png" ContentType="image/png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8D5-40C8-44F6-8566-033EB17FAE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85E2C-2B32-48E5-9DC1-925DABE0A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43EC-F12D-40D9-98CD-87D4D3D8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3F369-92D3-4D1D-8778-2C9AC7A78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44602-6578-48FB-BFA4-C7C8D7B4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6D0F-2AC8-4B87-A7DA-19A59C483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53D9-2F68-43C5-B813-DE9737E6A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2AFA-9F9E-421F-B470-E5505AE10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9DD2-F50B-41F9-8D6C-3DE3B4AC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08FE5-1FD4-4295-9C75-66E9EC350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A8A8-558D-49AA-A83E-534865612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EF50D-3F36-4DF9-8B67-7B2661CE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F90EE-AC91-4719-B3AC-E03D820836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image" Target="../media/image7.wmf"/><Relationship Id="rId4" Type="http://schemas.openxmlformats.org/officeDocument/2006/relationships/image" Target="../media/image7.wmf"/><Relationship Id="rId5" Type="http://schemas.openxmlformats.org/officeDocument/2006/relationships/image" Target="../media/image7.wmf"/><Relationship Id="rId6" Type="http://schemas.openxmlformats.org/officeDocument/2006/relationships/image" Target="../media/image7.wmf"/><Relationship Id="rId7" Type="http://schemas.openxmlformats.org/officeDocument/2006/relationships/image" Target="../media/image7.wmf"/><Relationship Id="rId8" Type="http://schemas.openxmlformats.org/officeDocument/2006/relationships/image" Target="../media/image7.wmf"/><Relationship Id="rId9" Type="http://schemas.openxmlformats.org/officeDocument/2006/relationships/image" Target="../media/image7.wmf"/><Relationship Id="rId10" Type="http://schemas.openxmlformats.org/officeDocument/2006/relationships/image" Target="../media/image7.wmf"/><Relationship Id="rId11" Type="http://schemas.openxmlformats.org/officeDocument/2006/relationships/image" Target="../media/image7.wmf"/><Relationship Id="rId12" Type="http://schemas.openxmlformats.org/officeDocument/2006/relationships/image" Target="../media/image7.wmf"/><Relationship Id="rId13" Type="http://schemas.openxmlformats.org/officeDocument/2006/relationships/image" Target="../media/image7.wmf"/><Relationship Id="rId14" Type="http://schemas.openxmlformats.org/officeDocument/2006/relationships/image" Target="../media/image7.wmf"/><Relationship Id="rId15" Type="http://schemas.openxmlformats.org/officeDocument/2006/relationships/image" Target="../media/image7.wmf"/><Relationship Id="rId1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395280" y="2637000"/>
            <a:ext cx="8496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ff"/>
                </a:solidFill>
                <a:latin typeface="Impact"/>
              </a:rPr>
              <a:t>negoziazione e delega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66ff"/>
              </a:solidFill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3059280" y="5157720"/>
            <a:ext cx="2881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na 6 april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51280" y="33336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3564000" y="638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iovanni Pont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56360" y="1557360"/>
            <a:ext cx="37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 PARLIAMO: CI ASCOLTIA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3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95280" y="692280"/>
            <a:ext cx="842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 ESCALATION SIMME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1280" y="1413000"/>
            <a:ext cx="50184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054160" y="2421000"/>
            <a:ext cx="904680" cy="368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/>
          <p:nvPr/>
        </p:nvCxnSpPr>
        <p:spPr>
          <a:xfrm flipH="1" flipV="1" rot="10800000">
            <a:off x="3276360" y="1628280"/>
            <a:ext cx="2160" cy="93744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57" name=""/>
          <p:cNvSpPr/>
          <p:nvPr/>
        </p:nvSpPr>
        <p:spPr>
          <a:xfrm>
            <a:off x="6229440" y="1268280"/>
            <a:ext cx="33300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732720" y="1268280"/>
            <a:ext cx="360360" cy="368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60720" y="2060640"/>
            <a:ext cx="79056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284640"/>
            <a:ext cx="3672000" cy="2442960"/>
          </a:xfrm>
          <a:prstGeom prst="rect">
            <a:avLst/>
          </a:prstGeom>
          <a:solidFill>
            <a:srgbClr val="fef76a"/>
          </a:solidFill>
          <a:ln w="3240">
            <a:solidFill>
              <a:srgbClr val="e5f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RE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SCARSA AUTOCENSURA E RICCHEZZA DI 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UO’ ESSERE CREATIVA PER CHIARIMENTO DI OPIN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PUO’ESSERE PROFICUA, SCARICA TENS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48360" y="3284640"/>
            <a:ext cx="3671640" cy="2442960"/>
          </a:xfrm>
          <a:prstGeom prst="rect">
            <a:avLst/>
          </a:prstGeom>
          <a:solidFill>
            <a:srgbClr val="fef76a"/>
          </a:solidFill>
          <a:ln w="3240">
            <a:solidFill>
              <a:srgbClr val="e5f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DIF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IFFICILE SPEZZARE SPIRALE DEL CONFLI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IFFICILE SERENA PRESA DI DECIS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UO’ GENERARE RANCORI (STRASCICHI DEL CONFLITTO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851280" y="162864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3851280" y="1628640"/>
            <a:ext cx="433440" cy="43200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708360" y="661356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Giovanni Pontara – CSA Ver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476360" y="0"/>
            <a:ext cx="721692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276720" y="661356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Giovanni Pontara – CSA Ver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395280" y="692280"/>
            <a:ext cx="842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CIPROCA ESCLU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411280" y="1413000"/>
            <a:ext cx="50184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054160" y="2421000"/>
            <a:ext cx="904680" cy="368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0" name=""/>
          <p:cNvCxnSpPr/>
          <p:nvPr/>
        </p:nvCxnSpPr>
        <p:spPr>
          <a:xfrm flipH="1" flipV="1" rot="10800000">
            <a:off x="3276360" y="1628280"/>
            <a:ext cx="2160" cy="93744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71" name=""/>
          <p:cNvSpPr/>
          <p:nvPr/>
        </p:nvSpPr>
        <p:spPr>
          <a:xfrm>
            <a:off x="5942160" y="3068640"/>
            <a:ext cx="33300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445080" y="3068640"/>
            <a:ext cx="360360" cy="368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5280" y="3789360"/>
            <a:ext cx="8424720" cy="2300040"/>
          </a:xfrm>
          <a:prstGeom prst="rect">
            <a:avLst/>
          </a:prstGeom>
          <a:solidFill>
            <a:srgbClr val="fef76a"/>
          </a:solidFill>
          <a:ln w="3240">
            <a:solidFill>
              <a:srgbClr val="e5f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AUTORIZZAZIONE SOCIALE ALL’INDIFFERENZA CHE NON IMPLICA DISCONFERMA DELL’INTERLOCUT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OSPENSIONE DELL’INTERAZIONE CONDIVISA E TEMPORANEA CHE NON GENERA SENTIMENTI NEG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E NON SI RISPETTANO LE REGOLE “CULTURALEMENTE” OVVIE CHE REGOLANO LA RECIPROCA ESCLUSIONE POSSONO NASCERE INCOMPRENS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419640" y="328464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635280" y="661356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Giovanni Pontara – CSA Ver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395280" y="1052640"/>
            <a:ext cx="842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ZIONI COMPLEMEN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39640" y="1917720"/>
            <a:ext cx="50184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81080" y="3860640"/>
            <a:ext cx="904680" cy="368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2205000"/>
            <a:ext cx="741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403280" y="2637000"/>
            <a:ext cx="741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403280" y="3068640"/>
            <a:ext cx="741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03280" y="3500280"/>
            <a:ext cx="741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403280" y="3933720"/>
            <a:ext cx="74167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116000" y="2205000"/>
            <a:ext cx="144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116000" y="220500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393372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116000" y="306864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83160" y="2492280"/>
            <a:ext cx="4330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683160" y="3357720"/>
            <a:ext cx="4330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699160" y="2276640"/>
            <a:ext cx="4334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699160" y="3573360"/>
            <a:ext cx="4334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643880" y="2060640"/>
            <a:ext cx="4334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67640" y="3789360"/>
            <a:ext cx="4334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811160" y="3141720"/>
            <a:ext cx="4334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11160" y="2708280"/>
            <a:ext cx="4334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116360" y="4221000"/>
            <a:ext cx="17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IEG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CO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422100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U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U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78160" y="4221000"/>
            <a:ext cx="165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BEDIENZ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805440" y="4221000"/>
            <a:ext cx="214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PRES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SSEGN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197964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389880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788508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5867280" y="393372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4869000"/>
            <a:ext cx="1676160" cy="916920"/>
          </a:xfrm>
          <a:prstGeom prst="rect">
            <a:avLst/>
          </a:pr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ICO DEL RAPPORTO EDUCA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020000" y="4869000"/>
            <a:ext cx="1800000" cy="916920"/>
          </a:xfrm>
          <a:prstGeom prst="rect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PICO DELLE ISTITUZIONI TOT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885080" y="573408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5866920" y="5950080"/>
            <a:ext cx="20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5867280" y="515736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5950080"/>
            <a:ext cx="268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LIMITAZIONE DI POT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661356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Giovanni Pontara – CSA Ver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539640" y="1198440"/>
            <a:ext cx="50184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81080" y="3141720"/>
            <a:ext cx="904680" cy="368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403280" y="1486080"/>
            <a:ext cx="74167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403280" y="1917720"/>
            <a:ext cx="7416720" cy="14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2349360"/>
            <a:ext cx="7416720" cy="1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03280" y="2781360"/>
            <a:ext cx="741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403280" y="3214800"/>
            <a:ext cx="74167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1486080"/>
            <a:ext cx="1440" cy="172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16000" y="148608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3214800"/>
            <a:ext cx="2160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1116000" y="2349360"/>
            <a:ext cx="2160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08360" y="1773360"/>
            <a:ext cx="4334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284720" y="1773360"/>
            <a:ext cx="4334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084720" y="1557360"/>
            <a:ext cx="4334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340000" y="1989000"/>
            <a:ext cx="4334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763640" y="1989000"/>
            <a:ext cx="433440" cy="28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95280" y="549360"/>
            <a:ext cx="842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ME DELL’ESC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80000" y="1557360"/>
            <a:ext cx="4334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7380360" y="1341360"/>
            <a:ext cx="43344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956720" y="1341360"/>
            <a:ext cx="433080" cy="287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403280" y="3357720"/>
            <a:ext cx="180036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RONTO DI        OPIN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348000" y="3357720"/>
            <a:ext cx="165564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LITTO  DI        OPIN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19640" y="3357720"/>
            <a:ext cx="1728720" cy="5202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FLITTO  DI        POT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3357720"/>
            <a:ext cx="1726920" cy="3070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ONTRO FIS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"/>
          <p:cNvCxnSpPr>
            <a:stCxn id="231" idx="2"/>
            <a:endCxn id="232" idx="2"/>
          </p:cNvCxnSpPr>
          <p:nvPr/>
        </p:nvCxnSpPr>
        <p:spPr>
          <a:xfrm flipH="1" rot="16200000">
            <a:off x="3238560" y="2948760"/>
            <a:ext cx="2160" cy="1873800"/>
          </a:xfrm>
          <a:prstGeom prst="bentConnector3">
            <a:avLst>
              <a:gd name="adj1" fmla="val 1440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236" name=""/>
          <p:cNvSpPr/>
          <p:nvPr/>
        </p:nvSpPr>
        <p:spPr>
          <a:xfrm>
            <a:off x="1547640" y="4149720"/>
            <a:ext cx="331164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EVALGONO ASPETTI COLLEGATI AI CONTENU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547640" y="5229360"/>
            <a:ext cx="3311640" cy="520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CIALMENTE ACCETTATI E CONSIDERATI NA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003640" y="4149720"/>
            <a:ext cx="2230560" cy="52020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 CONTENUTI SONO UN PRETES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003640" y="4869000"/>
            <a:ext cx="2232360" cy="137268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ISCHIOSO PER L’ORGANIZZAZIONE, POCO TOLLERATO E COMUNQUE REGLAMENTATO DALLE PAR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08720" y="5229360"/>
            <a:ext cx="1513080" cy="520200"/>
          </a:xfrm>
          <a:prstGeom prst="rect">
            <a:avLst/>
          </a:prstGeom>
          <a:solidFill>
            <a:srgbClr val="99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CIALMENTE ESCLU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7672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3860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4653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956720" y="371808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2268360" y="2421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4213080" y="2205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6084720" y="198900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956720" y="177300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564000" y="661356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Giovanni Pontara – CSA Ver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395280" y="2349360"/>
            <a:ext cx="849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ff"/>
                </a:solidFill>
                <a:latin typeface="Impact"/>
              </a:rPr>
              <a:t>leaderschip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66ff"/>
              </a:solidFill>
              <a:latin typeface="Impact"/>
              <a:ea typeface="Impact"/>
            </a:endParaRPr>
          </a:p>
        </p:txBody>
      </p:sp>
      <p:sp>
        <p:nvSpPr>
          <p:cNvPr id="252" name=""/>
          <p:cNvSpPr/>
          <p:nvPr/>
        </p:nvSpPr>
        <p:spPr>
          <a:xfrm>
            <a:off x="2843280" y="5300640"/>
            <a:ext cx="2881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na 6 april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3851280" y="33336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2556360" y="1557360"/>
            <a:ext cx="37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 PARLIAMO: CI ASCOLTIA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2" dur="3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042920" y="83664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 Rounded MT Bold"/>
              </a:rPr>
              <a:t>Un buon leader è prima di tutto una persona ch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633120" y="2276640"/>
            <a:ext cx="16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3333cc"/>
                </a:solidFill>
                <a:latin typeface="Eras Bold ITC"/>
                <a:ea typeface="Times New Roman"/>
              </a:rPr>
              <a:t>pens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843640" y="2997360"/>
            <a:ext cx="307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Eras Bold ITC"/>
                <a:ea typeface="Times New Roman"/>
              </a:rPr>
              <a:t>è disponibi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06640" y="37242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c00cc"/>
                </a:solidFill>
                <a:latin typeface="Eras Bold ITC"/>
                <a:ea typeface="Times New Roman"/>
              </a:rPr>
              <a:t>è umile e pazie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06440" y="456264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Eras Bold ITC"/>
                <a:ea typeface="Times New Roman"/>
              </a:rPr>
              <a:t>riceve e dà critiche costrut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1447920" y="1143000"/>
            <a:ext cx="6476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 Rounded MT Bold"/>
              </a:rPr>
              <a:t>Guida con energia e entusia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39640" y="234792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66ff"/>
                </a:solidFill>
                <a:latin typeface="Eras Bold ITC"/>
              </a:rPr>
              <a:t>dà alla gente senso dello scopo e della dire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1700280"/>
            <a:ext cx="830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9933"/>
                </a:solidFill>
                <a:latin typeface="Eras Bold ITC"/>
              </a:rPr>
              <a:t>motiva all’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347040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5050"/>
                </a:solidFill>
                <a:latin typeface="Eras Bold ITC"/>
              </a:rPr>
              <a:t>incoragg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8600" y="4156200"/>
            <a:ext cx="861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00cc00"/>
                </a:solidFill>
                <a:latin typeface="Eras Bold ITC"/>
              </a:rPr>
              <a:t>crea opportunità per gli altri di ottenere atten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4920" y="529920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000"/>
                </a:solidFill>
                <a:latin typeface="Eras Bold ITC"/>
              </a:rPr>
              <a:t>dimostra fiducia nelle altrui potenzialit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971640" y="260280"/>
            <a:ext cx="7010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cc"/>
                </a:solidFill>
                <a:latin typeface="Arial Rounded MT Bold"/>
              </a:rPr>
              <a:t>Un buon leader è prima di tutto una persona ch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 txBox="1"/>
          <p:nvPr/>
        </p:nvSpPr>
        <p:spPr>
          <a:xfrm>
            <a:off x="395280" y="2708280"/>
            <a:ext cx="849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ff"/>
                </a:solidFill>
                <a:latin typeface="Impact"/>
              </a:rPr>
              <a:t>in gruppo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66ff"/>
              </a:solidFill>
              <a:latin typeface="Impact"/>
              <a:ea typeface="Impact"/>
            </a:endParaRPr>
          </a:p>
        </p:txBody>
      </p:sp>
      <p:sp>
        <p:nvSpPr>
          <p:cNvPr id="269" name=""/>
          <p:cNvSpPr/>
          <p:nvPr/>
        </p:nvSpPr>
        <p:spPr>
          <a:xfrm>
            <a:off x="3059280" y="5300640"/>
            <a:ext cx="2881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na 6 april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3851280" y="33336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2556360" y="1557360"/>
            <a:ext cx="37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 PARLIAMO: CI ASCOLTIA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348000" y="64911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iovanni Pont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5" dur="3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1258920" y="1484280"/>
            <a:ext cx="6161040" cy="438624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 txBox="1"/>
          <p:nvPr/>
        </p:nvSpPr>
        <p:spPr>
          <a:xfrm>
            <a:off x="2411280" y="2349360"/>
            <a:ext cx="403884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RUPPO!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75" name=""/>
          <p:cNvSpPr/>
          <p:nvPr/>
        </p:nvSpPr>
        <p:spPr>
          <a:xfrm>
            <a:off x="826920" y="83664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IVERSI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516720" y="148428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FLI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5280" y="14842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LEAL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5667480"/>
            <a:ext cx="8229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3300"/>
                </a:solidFill>
                <a:latin typeface="Bauhaus 93"/>
              </a:rPr>
              <a:t>L’INSIEME E’ MAGGIORE DELLA SOMMA DELLE SINGOLE PART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700360" y="2602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CIPROCITA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434200" y="836640"/>
            <a:ext cx="28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16360" y="5734080"/>
            <a:ext cx="288108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na 6 april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067280" y="333360"/>
            <a:ext cx="936360" cy="9367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556360" y="1557360"/>
            <a:ext cx="37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 PARLIAMO: CI ASCOLTIA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547640" y="2637000"/>
            <a:ext cx="5904000" cy="2168640"/>
          </a:xfrm>
          <a:prstGeom prst="rect">
            <a:avLst/>
          </a:prstGeom>
          <a:solidFill>
            <a:srgbClr val="ffcc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6.30 introduzione al tema: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soggetti, relazioni comunicative e lead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7.15 lavoro di gruppo “le arance ugl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8.15 plenaria e focalizzazione dei temi: </a:t>
            </a:r>
            <a:r>
              <a:rPr b="0" lang="it-IT" sz="1800" spc="-1" strike="noStrike">
                <a:solidFill>
                  <a:srgbClr val="3333cc"/>
                </a:solidFill>
                <a:latin typeface="Arial"/>
              </a:rPr>
              <a:t>gruppi, negoziazione, del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19.00 chiusura dei lav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348000" y="638172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iovanni Pont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3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2411280" y="69228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Eras Bold ITC"/>
              </a:rPr>
              <a:t>Ascolta i diversi par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95280" y="1557360"/>
            <a:ext cx="87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9900"/>
                </a:solidFill>
                <a:latin typeface="Eras Bold ITC"/>
              </a:rPr>
              <a:t>Fa assumere diversi punti di vista … decentra la vi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71640" y="2492280"/>
            <a:ext cx="66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Eras Bold ITC"/>
              </a:rPr>
              <a:t>La tua non è la sola soluzione e forse nemmeno la miglio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059280" y="508464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Eras Bold ITC"/>
              </a:rPr>
              <a:t>Consenti di sperim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627280" y="3716280"/>
            <a:ext cx="3505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33cc"/>
                </a:solidFill>
                <a:latin typeface="Eras Bold ITC"/>
              </a:rPr>
              <a:t>Non porre limiti se non sono indispensab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611280" y="2349360"/>
            <a:ext cx="815328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Eras Bold ITC"/>
              </a:rPr>
              <a:t>Nella stessa misura in cui il gruppo è responsabile dei suoi err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000"/>
                </a:solidFill>
                <a:latin typeface="Eras Bold ITC"/>
              </a:rPr>
              <a:t> </a:t>
            </a:r>
            <a:r>
              <a:rPr b="1" lang="it-IT" sz="3200" spc="-1" strike="noStrike">
                <a:solidFill>
                  <a:srgbClr val="ff0000"/>
                </a:solidFill>
                <a:latin typeface="Eras Bold ITC"/>
              </a:rPr>
              <a:t>tu sei responsabile della tua gestione di quegli err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 txBox="1"/>
          <p:nvPr/>
        </p:nvSpPr>
        <p:spPr>
          <a:xfrm>
            <a:off x="395280" y="2637000"/>
            <a:ext cx="8496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ff"/>
                </a:solidFill>
                <a:latin typeface="Impact"/>
              </a:rPr>
              <a:t>la delega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66ff"/>
              </a:solidFill>
              <a:latin typeface="Impact"/>
              <a:ea typeface="Impact"/>
            </a:endParaRPr>
          </a:p>
        </p:txBody>
      </p:sp>
      <p:sp>
        <p:nvSpPr>
          <p:cNvPr id="289" name=""/>
          <p:cNvSpPr/>
          <p:nvPr/>
        </p:nvSpPr>
        <p:spPr>
          <a:xfrm>
            <a:off x="2987640" y="5300640"/>
            <a:ext cx="2881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na 6 april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2"/>
          <a:stretch/>
        </p:blipFill>
        <p:spPr>
          <a:xfrm>
            <a:off x="3780000" y="333360"/>
            <a:ext cx="936360" cy="93672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2556360" y="1557360"/>
            <a:ext cx="37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 PARLIAMO: CI ASCOLTIA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348000" y="64911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iovanni Pont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0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5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468360" y="2276640"/>
            <a:ext cx="83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16000" y="1484280"/>
            <a:ext cx="734544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6040" indent="-44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efinire obiettivi circoscri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egliere la persona giu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ttribuIre autorità e assistenz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assicurarsi che l’interessato accetti consapevole dei rischi e delle difficol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lasciare libertà d’iniziati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6040" indent="-4460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84360" y="62064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BUONE REGO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684360" y="189000"/>
            <a:ext cx="777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16000" y="1484280"/>
            <a:ext cx="70563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2440" indent="-622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ore di rivelare carenze propr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ccessivo desiderio di perfezi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canza di fiducia nei collabora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ore di perdere il proprio prestig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imore che i collaboratori si mettano troppo in lu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00760" y="549360"/>
            <a:ext cx="633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STACOLI PER IL DELEGA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755640" y="1484280"/>
            <a:ext cx="7920000" cy="446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22440" indent="-622440"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ancanza di fiducia in se ste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tabLst>
                <a:tab algn="l" pos="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iluttanza ad assumersi responsabilit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adeguatezza degli incentivi rispetto alla responsabilità Timore di critiche o disapprovaz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tabLst>
                <a:tab algn="l" pos="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Consapevolezza di non avere la competenza necessa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buClr>
                <a:srgbClr val="000000"/>
              </a:buClr>
              <a:buFont typeface="Arial"/>
              <a:buChar char="•"/>
              <a:tabLst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22440" indent="-622440">
              <a:tabLst>
                <a:tab algn="l" pos="0"/>
                <a:tab algn="l" pos="59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400400" y="549360"/>
            <a:ext cx="60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Arial"/>
              </a:rPr>
              <a:t>OSTACOLI PER IL DELEGA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 txBox="1"/>
          <p:nvPr/>
        </p:nvSpPr>
        <p:spPr>
          <a:xfrm>
            <a:off x="1676520" y="914400"/>
            <a:ext cx="579096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Si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OTTIMISTA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304920" y="457200"/>
            <a:ext cx="3200400" cy="313200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380880" y="380880"/>
            <a:ext cx="3200400" cy="3132360"/>
          </a:xfrm>
          <a:prstGeom prst="rect">
            <a:avLst/>
          </a:prstGeom>
          <a:ln w="0">
            <a:noFill/>
          </a:ln>
        </p:spPr>
      </p:pic>
      <p:pic>
        <p:nvPicPr>
          <p:cNvPr id="304" name="" descr=""/>
          <p:cNvPicPr/>
          <p:nvPr/>
        </p:nvPicPr>
        <p:blipFill>
          <a:blip r:embed="rId3"/>
          <a:stretch/>
        </p:blipFill>
        <p:spPr>
          <a:xfrm>
            <a:off x="914400" y="685800"/>
            <a:ext cx="3200400" cy="3132000"/>
          </a:xfrm>
          <a:prstGeom prst="rect">
            <a:avLst/>
          </a:prstGeom>
          <a:ln w="0">
            <a:noFill/>
          </a:ln>
        </p:spPr>
      </p:pic>
      <p:pic>
        <p:nvPicPr>
          <p:cNvPr id="305" name="" descr=""/>
          <p:cNvPicPr/>
          <p:nvPr/>
        </p:nvPicPr>
        <p:blipFill>
          <a:blip r:embed="rId4"/>
          <a:stretch/>
        </p:blipFill>
        <p:spPr>
          <a:xfrm>
            <a:off x="2209680" y="304920"/>
            <a:ext cx="3200400" cy="3132000"/>
          </a:xfrm>
          <a:prstGeom prst="rect">
            <a:avLst/>
          </a:prstGeom>
          <a:ln w="0">
            <a:noFill/>
          </a:ln>
        </p:spPr>
      </p:pic>
      <p:pic>
        <p:nvPicPr>
          <p:cNvPr id="306" name="" descr=""/>
          <p:cNvPicPr/>
          <p:nvPr/>
        </p:nvPicPr>
        <p:blipFill>
          <a:blip r:embed="rId5"/>
          <a:stretch/>
        </p:blipFill>
        <p:spPr>
          <a:xfrm>
            <a:off x="1981080" y="1828800"/>
            <a:ext cx="3200400" cy="31320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6"/>
          <a:stretch/>
        </p:blipFill>
        <p:spPr>
          <a:xfrm>
            <a:off x="3505320" y="0"/>
            <a:ext cx="3200400" cy="313200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"/>
          <p:cNvPicPr/>
          <p:nvPr/>
        </p:nvPicPr>
        <p:blipFill>
          <a:blip r:embed="rId7"/>
          <a:stretch/>
        </p:blipFill>
        <p:spPr>
          <a:xfrm>
            <a:off x="3657600" y="1295280"/>
            <a:ext cx="3200400" cy="3132360"/>
          </a:xfrm>
          <a:prstGeom prst="rect">
            <a:avLst/>
          </a:prstGeom>
          <a:ln w="0">
            <a:noFill/>
          </a:ln>
        </p:spPr>
      </p:pic>
      <p:pic>
        <p:nvPicPr>
          <p:cNvPr id="309" name="" descr=""/>
          <p:cNvPicPr/>
          <p:nvPr/>
        </p:nvPicPr>
        <p:blipFill>
          <a:blip r:embed="rId8"/>
          <a:stretch/>
        </p:blipFill>
        <p:spPr>
          <a:xfrm>
            <a:off x="0" y="3124080"/>
            <a:ext cx="3200400" cy="3132360"/>
          </a:xfrm>
          <a:prstGeom prst="rect">
            <a:avLst/>
          </a:prstGeom>
          <a:ln w="0">
            <a:noFill/>
          </a:ln>
        </p:spPr>
      </p:pic>
      <p:pic>
        <p:nvPicPr>
          <p:cNvPr id="310" name="" descr=""/>
          <p:cNvPicPr/>
          <p:nvPr/>
        </p:nvPicPr>
        <p:blipFill>
          <a:blip r:embed="rId9"/>
          <a:stretch/>
        </p:blipFill>
        <p:spPr>
          <a:xfrm>
            <a:off x="2666880" y="2666880"/>
            <a:ext cx="3200400" cy="3132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"/>
          <p:cNvPicPr/>
          <p:nvPr/>
        </p:nvPicPr>
        <p:blipFill>
          <a:blip r:embed="rId10"/>
          <a:stretch/>
        </p:blipFill>
        <p:spPr>
          <a:xfrm>
            <a:off x="1371600" y="2819520"/>
            <a:ext cx="3200400" cy="3132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11"/>
          <a:stretch/>
        </p:blipFill>
        <p:spPr>
          <a:xfrm>
            <a:off x="3352680" y="2590920"/>
            <a:ext cx="3200400" cy="313200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12"/>
          <a:stretch/>
        </p:blipFill>
        <p:spPr>
          <a:xfrm>
            <a:off x="5486400" y="0"/>
            <a:ext cx="3200400" cy="3132000"/>
          </a:xfrm>
          <a:prstGeom prst="rect">
            <a:avLst/>
          </a:prstGeom>
          <a:ln w="0">
            <a:noFill/>
          </a:ln>
        </p:spPr>
      </p:pic>
      <p:pic>
        <p:nvPicPr>
          <p:cNvPr id="314" name="" descr=""/>
          <p:cNvPicPr/>
          <p:nvPr/>
        </p:nvPicPr>
        <p:blipFill>
          <a:blip r:embed="rId13"/>
          <a:stretch/>
        </p:blipFill>
        <p:spPr>
          <a:xfrm>
            <a:off x="5638680" y="1143000"/>
            <a:ext cx="3200400" cy="3132000"/>
          </a:xfrm>
          <a:prstGeom prst="rect">
            <a:avLst/>
          </a:prstGeom>
          <a:ln w="0">
            <a:noFill/>
          </a:ln>
        </p:spPr>
      </p:pic>
      <p:pic>
        <p:nvPicPr>
          <p:cNvPr id="315" name="" descr=""/>
          <p:cNvPicPr/>
          <p:nvPr/>
        </p:nvPicPr>
        <p:blipFill>
          <a:blip r:embed="rId14"/>
          <a:stretch/>
        </p:blipFill>
        <p:spPr>
          <a:xfrm>
            <a:off x="3352680" y="2514600"/>
            <a:ext cx="3200400" cy="313200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15"/>
          <a:stretch/>
        </p:blipFill>
        <p:spPr>
          <a:xfrm>
            <a:off x="5029200" y="3429000"/>
            <a:ext cx="3200400" cy="3132000"/>
          </a:xfrm>
          <a:prstGeom prst="rect">
            <a:avLst/>
          </a:prstGeom>
          <a:ln w="0">
            <a:noFill/>
          </a:ln>
        </p:spPr>
      </p:pic>
      <p:sp>
        <p:nvSpPr>
          <p:cNvPr id="317" name=""/>
          <p:cNvSpPr/>
          <p:nvPr/>
        </p:nvSpPr>
        <p:spPr>
          <a:xfrm>
            <a:off x="0" y="6156360"/>
            <a:ext cx="9144000" cy="703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0000"/>
                </a:solidFill>
                <a:latin typeface="Arial Black"/>
              </a:rPr>
              <a:t>L’OTTIMISMO E’ CONTAGIOSO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500"/>
                            </p:stCondLst>
                            <p:childTnLst>
                              <p:par>
                                <p:cTn id="4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4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2500"/>
                            </p:stCondLst>
                            <p:childTnLst>
                              <p:par>
                                <p:cTn id="4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4000"/>
                            </p:stCondLst>
                            <p:childTnLst>
                              <p:par>
                                <p:cTn id="45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500"/>
                            </p:stCondLst>
                            <p:childTnLst>
                              <p:par>
                                <p:cTn id="4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5000"/>
                            </p:stCondLst>
                            <p:childTnLst>
                              <p:par>
                                <p:cTn id="4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5500"/>
                            </p:stCondLst>
                            <p:childTnLst>
                              <p:par>
                                <p:cTn id="4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6000"/>
                            </p:stCondLst>
                            <p:childTnLst>
                              <p:par>
                                <p:cTn id="4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6500"/>
                            </p:stCondLst>
                            <p:childTnLst>
                              <p:par>
                                <p:cTn id="4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7000"/>
                            </p:stCondLst>
                            <p:childTnLst>
                              <p:par>
                                <p:cTn id="4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9" name="" descr=""/>
          <p:cNvPicPr/>
          <p:nvPr/>
        </p:nvPicPr>
        <p:blipFill>
          <a:blip r:embed="rId2"/>
          <a:stretch/>
        </p:blipFill>
        <p:spPr>
          <a:xfrm>
            <a:off x="2700360" y="981000"/>
            <a:ext cx="4038480" cy="38451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1042920" y="5300640"/>
            <a:ext cx="72741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arrivederci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0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0"/>
                            </p:stCondLst>
                            <p:childTnLst>
                              <p:par>
                                <p:cTn id="49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97" dur="3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EN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332000" y="1197000"/>
            <a:ext cx="2735280" cy="1008000"/>
          </a:xfrm>
          <a:prstGeom prst="ellipse">
            <a:avLst/>
          </a:prstGeom>
          <a:solidFill>
            <a:srgbClr val="e6f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56360" y="2637000"/>
            <a:ext cx="2735280" cy="1008000"/>
          </a:xfrm>
          <a:prstGeom prst="ellipse">
            <a:avLst/>
          </a:prstGeom>
          <a:solidFill>
            <a:srgbClr val="e6f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59280" y="1197000"/>
            <a:ext cx="2735280" cy="1008000"/>
          </a:xfrm>
          <a:prstGeom prst="ellipse">
            <a:avLst/>
          </a:prstGeom>
          <a:solidFill>
            <a:srgbClr val="e6f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2563920"/>
            <a:ext cx="2735280" cy="1008000"/>
          </a:xfrm>
          <a:prstGeom prst="ellipse">
            <a:avLst/>
          </a:prstGeom>
          <a:solidFill>
            <a:srgbClr val="e6f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76360" y="1268280"/>
            <a:ext cx="2448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IUR               SISTEMA SCOLASTICO NAZION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003640" y="155736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STEMA PA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68360" y="2708280"/>
            <a:ext cx="244800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STITUTI SCOLASTIC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F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7640" y="2781360"/>
            <a:ext cx="244800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GION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VI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UNITA’ LOC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987640" y="1989000"/>
            <a:ext cx="3024360" cy="1366920"/>
          </a:xfrm>
          <a:prstGeom prst="ellipse">
            <a:avLst/>
          </a:prstGeom>
          <a:solidFill>
            <a:srgbClr val="8bfda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03640" y="2349360"/>
            <a:ext cx="2448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PONSABILITA’ EDUC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"/>
          <p:cNvCxnSpPr>
            <a:stCxn id="55" idx="6"/>
            <a:endCxn id="57" idx="2"/>
          </p:cNvCxnSpPr>
          <p:nvPr/>
        </p:nvCxnSpPr>
        <p:spPr>
          <a:xfrm>
            <a:off x="4067280" y="1701360"/>
            <a:ext cx="792720" cy="1080"/>
          </a:xfrm>
          <a:prstGeom prst="straightConnector1">
            <a:avLst/>
          </a:prstGeom>
          <a:ln w="3240">
            <a:solidFill>
              <a:srgbClr val="ff0000"/>
            </a:solidFill>
            <a:miter/>
          </a:ln>
        </p:spPr>
      </p:cxnSp>
      <p:cxnSp>
        <p:nvCxnSpPr>
          <p:cNvPr id="66" name=""/>
          <p:cNvCxnSpPr>
            <a:stCxn id="57" idx="4"/>
            <a:endCxn id="56" idx="0"/>
          </p:cNvCxnSpPr>
          <p:nvPr/>
        </p:nvCxnSpPr>
        <p:spPr>
          <a:xfrm>
            <a:off x="6227280" y="2205000"/>
            <a:ext cx="1297800" cy="43272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67" name=""/>
          <p:cNvCxnSpPr>
            <a:stCxn id="56" idx="4"/>
            <a:endCxn id="68" idx="7"/>
          </p:cNvCxnSpPr>
          <p:nvPr/>
        </p:nvCxnSpPr>
        <p:spPr>
          <a:xfrm flipH="1" flipV="1">
            <a:off x="6597000" y="3431520"/>
            <a:ext cx="927720" cy="21348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69" name=""/>
          <p:cNvCxnSpPr>
            <a:stCxn id="58" idx="4"/>
            <a:endCxn id="70" idx="0"/>
          </p:cNvCxnSpPr>
          <p:nvPr/>
        </p:nvCxnSpPr>
        <p:spPr>
          <a:xfrm>
            <a:off x="1692360" y="3571920"/>
            <a:ext cx="576360" cy="5054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71" name=""/>
          <p:cNvCxnSpPr>
            <a:stCxn id="55" idx="4"/>
            <a:endCxn id="58" idx="0"/>
          </p:cNvCxnSpPr>
          <p:nvPr/>
        </p:nvCxnSpPr>
        <p:spPr>
          <a:xfrm flipH="1">
            <a:off x="1692000" y="2204640"/>
            <a:ext cx="1008720" cy="359640"/>
          </a:xfrm>
          <a:prstGeom prst="straightConnector1">
            <a:avLst/>
          </a:prstGeom>
          <a:ln w="3240">
            <a:solidFill>
              <a:srgbClr val="ff0000"/>
            </a:solidFill>
            <a:miter/>
          </a:ln>
        </p:spPr>
      </p:cxnSp>
      <p:cxnSp>
        <p:nvCxnSpPr>
          <p:cNvPr id="72" name=""/>
          <p:cNvCxnSpPr>
            <a:stCxn id="68" idx="4"/>
          </p:cNvCxnSpPr>
          <p:nvPr/>
        </p:nvCxnSpPr>
        <p:spPr>
          <a:xfrm>
            <a:off x="4535280" y="4292640"/>
            <a:ext cx="1152720" cy="505440"/>
          </a:xfrm>
          <a:prstGeom prst="straightConnector1">
            <a:avLst/>
          </a:prstGeom>
          <a:ln w="9360">
            <a:solidFill>
              <a:srgbClr val="ff0000"/>
            </a:solidFill>
            <a:miter/>
          </a:ln>
        </p:spPr>
      </p:cxnSp>
      <p:cxnSp>
        <p:nvCxnSpPr>
          <p:cNvPr id="73" name=""/>
          <p:cNvCxnSpPr>
            <a:stCxn id="74" idx="6"/>
            <a:endCxn id="75" idx="1"/>
          </p:cNvCxnSpPr>
          <p:nvPr/>
        </p:nvCxnSpPr>
        <p:spPr>
          <a:xfrm flipH="1" flipV="1">
            <a:off x="3707640" y="5181120"/>
            <a:ext cx="430920" cy="192960"/>
          </a:xfrm>
          <a:prstGeom prst="straightConnector1">
            <a:avLst/>
          </a:prstGeom>
          <a:ln w="9360">
            <a:solidFill>
              <a:srgbClr val="ffff66"/>
            </a:solidFill>
            <a:miter/>
          </a:ln>
        </p:spPr>
      </p:cxnSp>
      <p:sp>
        <p:nvSpPr>
          <p:cNvPr id="68" name=""/>
          <p:cNvSpPr/>
          <p:nvPr/>
        </p:nvSpPr>
        <p:spPr>
          <a:xfrm>
            <a:off x="1619280" y="3284640"/>
            <a:ext cx="5832360" cy="10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3573360"/>
            <a:ext cx="24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MIGL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635328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cc"/>
                </a:solidFill>
                <a:latin typeface="Arial"/>
              </a:rPr>
              <a:t>Giovanni Pontara – CSA Ver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"/>
          <p:cNvCxnSpPr>
            <a:stCxn id="70" idx="6"/>
            <a:endCxn id="79" idx="1"/>
          </p:cNvCxnSpPr>
          <p:nvPr/>
        </p:nvCxnSpPr>
        <p:spPr>
          <a:xfrm flipH="1">
            <a:off x="3131280" y="4581000"/>
            <a:ext cx="505800" cy="389880"/>
          </a:xfrm>
          <a:prstGeom prst="straightConnector1">
            <a:avLst/>
          </a:prstGeom>
          <a:ln w="9360">
            <a:solidFill>
              <a:srgbClr val="ffff66"/>
            </a:solidFill>
            <a:miter/>
          </a:ln>
        </p:spPr>
      </p:cxnSp>
      <p:sp>
        <p:nvSpPr>
          <p:cNvPr id="70" name=""/>
          <p:cNvSpPr/>
          <p:nvPr/>
        </p:nvSpPr>
        <p:spPr>
          <a:xfrm>
            <a:off x="900000" y="4076640"/>
            <a:ext cx="2737080" cy="10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443700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RUPPO DEI DOCE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403280" y="4869000"/>
            <a:ext cx="2735280" cy="1008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7640" y="5229360"/>
            <a:ext cx="244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L DOC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4005360"/>
            <a:ext cx="3133800" cy="2421000"/>
          </a:xfrm>
          <a:prstGeom prst="irregularSeal1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708360" y="5013360"/>
            <a:ext cx="172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’ALUN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3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0" dur="3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3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3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5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1" dur="3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" dur="3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3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3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3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5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8" dur="3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7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0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3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6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9" dur="3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5" dur="3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395280" y="2349360"/>
            <a:ext cx="849636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0066ff"/>
                </a:solidFill>
                <a:latin typeface="Impact"/>
              </a:rPr>
              <a:t>soggetti e relazioni</a:t>
            </a:r>
            <a:endParaRPr b="0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0066ff"/>
              </a:solidFill>
              <a:latin typeface="Impact"/>
              <a:ea typeface="Impact"/>
            </a:endParaRPr>
          </a:p>
        </p:txBody>
      </p:sp>
      <p:sp>
        <p:nvSpPr>
          <p:cNvPr id="84" name=""/>
          <p:cNvSpPr/>
          <p:nvPr/>
        </p:nvSpPr>
        <p:spPr>
          <a:xfrm>
            <a:off x="2987640" y="5300640"/>
            <a:ext cx="2881440" cy="368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ona 6 aprile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851280" y="333360"/>
            <a:ext cx="936720" cy="9367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2556360" y="1557360"/>
            <a:ext cx="370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I PARLIAMO: CI ASCOLTIAM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8000" y="6491160"/>
            <a:ext cx="20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Giovanni Ponta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2" dur="3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635280" y="661356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Giovanni Pontara – CSA Ver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549360"/>
            <a:ext cx="7561440" cy="43164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21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STO E PERS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59280" y="1557360"/>
            <a:ext cx="3095640" cy="647640"/>
          </a:xfrm>
          <a:prstGeom prst="flowChartAlternateProcess">
            <a:avLst/>
          </a:prstGeom>
          <a:solidFill>
            <a:srgbClr val="e6f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557360"/>
            <a:ext cx="3095640" cy="647640"/>
          </a:xfrm>
          <a:prstGeom prst="flowChartAlternateProcess">
            <a:avLst/>
          </a:prstGeom>
          <a:solidFill>
            <a:srgbClr val="e6f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124000" y="170028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O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96000" y="1700280"/>
            <a:ext cx="17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5280" y="1197000"/>
            <a:ext cx="2160720" cy="1800360"/>
          </a:xfrm>
          <a:prstGeom prst="flowChartAlternateProcess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780000" y="1341360"/>
            <a:ext cx="174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IPROCHE PERCE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26520" y="1989000"/>
            <a:ext cx="14349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OSCE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ILITA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I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IVAZIO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79640" y="3139920"/>
            <a:ext cx="5472000" cy="289080"/>
          </a:xfrm>
          <a:prstGeom prst="flowChartAlternateProcess">
            <a:avLst/>
          </a:prstGeom>
          <a:solidFill>
            <a:srgbClr val="e6f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88000" y="3068640"/>
            <a:ext cx="366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ZIONI E PARTECIP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03640" y="3573360"/>
            <a:ext cx="3168720" cy="71928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979640" y="4437000"/>
            <a:ext cx="5472000" cy="289080"/>
          </a:xfrm>
          <a:prstGeom prst="flowChartAlternateProcess">
            <a:avLst/>
          </a:prstGeom>
          <a:solidFill>
            <a:srgbClr val="e6f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564000" y="4365720"/>
            <a:ext cx="26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LITA’ DI 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03640" y="4869000"/>
            <a:ext cx="3168720" cy="718920"/>
          </a:xfrm>
          <a:prstGeom prst="ellipse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A’ DEI PROCES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332000" y="5805360"/>
            <a:ext cx="6624720" cy="432000"/>
          </a:xfrm>
          <a:prstGeom prst="flowChartAlternateProcess">
            <a:avLst/>
          </a:prstGeom>
          <a:solidFill>
            <a:srgbClr val="e6f3f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SULT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"/>
          <p:cNvCxnSpPr>
            <a:stCxn id="95" idx="0"/>
            <a:endCxn id="95" idx="0"/>
          </p:cNvCxnSpPr>
          <p:nvPr/>
        </p:nvCxnSpPr>
        <p:spPr>
          <a:xfrm>
            <a:off x="4716000" y="119664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6" name=""/>
          <p:cNvSpPr/>
          <p:nvPr/>
        </p:nvSpPr>
        <p:spPr>
          <a:xfrm>
            <a:off x="2987640" y="98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87640" y="2205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372360" y="1123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372360" y="98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372360" y="220500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8000" y="3429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788000" y="429264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88000" y="4724280"/>
            <a:ext cx="0" cy="1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88000" y="557532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04" idx="1"/>
            <a:endCxn id="89" idx="1"/>
          </p:cNvCxnSpPr>
          <p:nvPr/>
        </p:nvCxnSpPr>
        <p:spPr>
          <a:xfrm rot="10800000">
            <a:off x="899280" y="764280"/>
            <a:ext cx="432720" cy="5256720"/>
          </a:xfrm>
          <a:prstGeom prst="bentConnector3">
            <a:avLst>
              <a:gd name="adj1" fmla="val 152872"/>
            </a:avLst>
          </a:prstGeom>
          <a:ln w="28440">
            <a:solidFill>
              <a:srgbClr val="333399"/>
            </a:solidFill>
            <a:prstDash val="sysDot"/>
            <a:miter/>
            <a:tailEnd len="med" type="triangle" w="med"/>
          </a:ln>
        </p:spPr>
      </p:cxnSp>
      <p:cxnSp>
        <p:nvCxnSpPr>
          <p:cNvPr id="116" name=""/>
          <p:cNvCxnSpPr>
            <a:stCxn id="104" idx="3"/>
            <a:endCxn id="89" idx="3"/>
          </p:cNvCxnSpPr>
          <p:nvPr/>
        </p:nvCxnSpPr>
        <p:spPr>
          <a:xfrm flipV="1">
            <a:off x="7956720" y="764640"/>
            <a:ext cx="505440" cy="5256720"/>
          </a:xfrm>
          <a:prstGeom prst="bentConnector3">
            <a:avLst>
              <a:gd name="adj1" fmla="val 145260"/>
            </a:avLst>
          </a:prstGeom>
          <a:ln w="28440">
            <a:solidFill>
              <a:srgbClr val="333399"/>
            </a:solidFill>
            <a:prstDash val="sysDot"/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9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0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6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9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95280" y="907920"/>
            <a:ext cx="842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 RELAZIONI COMUNI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2995560"/>
            <a:ext cx="2664000" cy="13669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7600" y="2563920"/>
            <a:ext cx="2262600" cy="368280"/>
          </a:xfrm>
          <a:prstGeom prst="rect">
            <a:avLst/>
          </a:prstGeom>
          <a:solidFill>
            <a:srgbClr val="fef76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PLEME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566880" y="4437000"/>
            <a:ext cx="1616400" cy="368280"/>
          </a:xfrm>
          <a:prstGeom prst="rect">
            <a:avLst/>
          </a:prstGeom>
          <a:solidFill>
            <a:srgbClr val="fef76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MME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940360" y="3716280"/>
            <a:ext cx="863640" cy="368280"/>
          </a:xfrm>
          <a:prstGeom prst="rect">
            <a:avLst/>
          </a:prstGeom>
          <a:solidFill>
            <a:srgbClr val="fc9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943600" y="4437000"/>
            <a:ext cx="1206360" cy="368280"/>
          </a:xfrm>
          <a:prstGeom prst="rect">
            <a:avLst/>
          </a:prstGeom>
          <a:solidFill>
            <a:srgbClr val="fc9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cal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4680" y="5084640"/>
            <a:ext cx="2257920" cy="368280"/>
          </a:xfrm>
          <a:prstGeom prst="rect">
            <a:avLst/>
          </a:prstGeom>
          <a:solidFill>
            <a:srgbClr val="fc90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iproca esclus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8" idx="0"/>
            <a:endCxn id="119" idx="1"/>
          </p:cNvCxnSpPr>
          <p:nvPr/>
        </p:nvCxnSpPr>
        <p:spPr>
          <a:xfrm flipH="1" flipV="1" rot="5400000">
            <a:off x="2702520" y="2133720"/>
            <a:ext cx="246600" cy="1477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5" name=""/>
          <p:cNvCxnSpPr>
            <a:stCxn id="118" idx="4"/>
            <a:endCxn id="120" idx="1"/>
          </p:cNvCxnSpPr>
          <p:nvPr/>
        </p:nvCxnSpPr>
        <p:spPr>
          <a:xfrm flipH="1" rot="16200000">
            <a:off x="2694600" y="3754080"/>
            <a:ext cx="261000" cy="1477080"/>
          </a:xfrm>
          <a:prstGeom prst="bentConnector2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6" name=""/>
          <p:cNvCxnSpPr>
            <a:stCxn id="120" idx="3"/>
            <a:endCxn id="121" idx="1"/>
          </p:cNvCxnSpPr>
          <p:nvPr/>
        </p:nvCxnSpPr>
        <p:spPr>
          <a:xfrm flipV="1">
            <a:off x="5186520" y="3900600"/>
            <a:ext cx="754560" cy="722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>
            <a:stCxn id="120" idx="3"/>
            <a:endCxn id="123" idx="1"/>
          </p:cNvCxnSpPr>
          <p:nvPr/>
        </p:nvCxnSpPr>
        <p:spPr>
          <a:xfrm>
            <a:off x="5186520" y="4622400"/>
            <a:ext cx="75456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8" name=""/>
          <p:cNvCxnSpPr>
            <a:stCxn id="120" idx="3"/>
            <a:endCxn id="122" idx="1"/>
          </p:cNvCxnSpPr>
          <p:nvPr/>
        </p:nvCxnSpPr>
        <p:spPr>
          <a:xfrm flipV="1">
            <a:off x="5186520" y="4620960"/>
            <a:ext cx="7545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9" name=""/>
          <p:cNvSpPr/>
          <p:nvPr/>
        </p:nvSpPr>
        <p:spPr>
          <a:xfrm>
            <a:off x="3492360" y="6613560"/>
            <a:ext cx="208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Giovanni Pontara – CSA Ver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95280" y="549360"/>
            <a:ext cx="842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LAZIONE COMPLEMEN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627280" y="1341360"/>
            <a:ext cx="50184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70160" y="2349360"/>
            <a:ext cx="904680" cy="368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" name=""/>
          <p:cNvCxnSpPr/>
          <p:nvPr/>
        </p:nvCxnSpPr>
        <p:spPr>
          <a:xfrm flipH="1" flipV="1" rot="10800000">
            <a:off x="3491280" y="1557000"/>
            <a:ext cx="2520" cy="93744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34" name=""/>
          <p:cNvSpPr/>
          <p:nvPr/>
        </p:nvSpPr>
        <p:spPr>
          <a:xfrm>
            <a:off x="6229440" y="1341360"/>
            <a:ext cx="33300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227640" y="2349360"/>
            <a:ext cx="360360" cy="368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0000" y="155736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780000" y="249228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68360" y="2925720"/>
            <a:ext cx="3672000" cy="3134520"/>
          </a:xfrm>
          <a:prstGeom prst="rect">
            <a:avLst/>
          </a:prstGeom>
          <a:solidFill>
            <a:srgbClr val="fef76a"/>
          </a:solidFill>
          <a:ln w="3240">
            <a:solidFill>
              <a:srgbClr val="e5f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333399"/>
                </a:solidFill>
                <a:latin typeface="Arial"/>
              </a:rPr>
              <a:t>PRE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FACILITA LA COMUNICAZIONE TRA INTERLOCUTORI DI ETA’, COMPETENZE, RUOLI DIVER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E’ STABILE E NON HA BISOGNO DI CONFER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UTILE ED EFFICACE PER DECID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333399"/>
                </a:solidFill>
                <a:latin typeface="Arial"/>
              </a:rPr>
              <a:t>COPIONE PER PRIMI INCONT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2925720"/>
            <a:ext cx="3672000" cy="2991600"/>
          </a:xfrm>
          <a:prstGeom prst="rect">
            <a:avLst/>
          </a:prstGeom>
          <a:solidFill>
            <a:srgbClr val="fef76a"/>
          </a:solidFill>
          <a:ln w="3240">
            <a:solidFill>
              <a:srgbClr val="e5f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DIF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TENDE A STEREOTIPARSI RIPROPONENDOSI IN MODO RIGI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SCARSE LE INFORMAZIONI TRAT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PUO’ GENERARE FRUSTRAZIONE IN CHI E’ SEMPRE 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708360" y="661356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Giovanni Pontara – CSA Ver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395280" y="620640"/>
            <a:ext cx="842472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 RELAZIONE SIMMETRICA ST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27280" y="1413000"/>
            <a:ext cx="50184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2421000"/>
            <a:ext cx="904680" cy="368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4" name=""/>
          <p:cNvCxnSpPr/>
          <p:nvPr/>
        </p:nvCxnSpPr>
        <p:spPr>
          <a:xfrm flipH="1" flipV="1" rot="10800000">
            <a:off x="3491280" y="1628280"/>
            <a:ext cx="2520" cy="937440"/>
          </a:xfrm>
          <a:prstGeom prst="bentConnector3">
            <a:avLst>
              <a:gd name="adj1" fmla="val -14400000"/>
            </a:avLst>
          </a:prstGeom>
          <a:ln w="28440">
            <a:solidFill>
              <a:srgbClr val="000000"/>
            </a:solidFill>
            <a:miter/>
          </a:ln>
        </p:spPr>
      </p:cxnSp>
      <p:sp>
        <p:nvSpPr>
          <p:cNvPr id="145" name=""/>
          <p:cNvSpPr/>
          <p:nvPr/>
        </p:nvSpPr>
        <p:spPr>
          <a:xfrm>
            <a:off x="5653080" y="1844640"/>
            <a:ext cx="33300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156360" y="1844640"/>
            <a:ext cx="360360" cy="36828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2060640"/>
            <a:ext cx="223200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68360" y="2997360"/>
            <a:ext cx="3672000" cy="2168640"/>
          </a:xfrm>
          <a:prstGeom prst="rect">
            <a:avLst/>
          </a:prstGeom>
          <a:solidFill>
            <a:srgbClr val="fef76a"/>
          </a:solidFill>
          <a:ln w="3240">
            <a:solidFill>
              <a:srgbClr val="e5f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PREG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SCARSA AUTOCENSURA E RICCHEZZA DI INFORM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GENERA SODDISF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RAFFORZA IL SENSO DI APPARTENENZA AL GRUP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003640" y="2997360"/>
            <a:ext cx="3672000" cy="3123000"/>
          </a:xfrm>
          <a:prstGeom prst="rect">
            <a:avLst/>
          </a:prstGeom>
          <a:solidFill>
            <a:srgbClr val="fef76a"/>
          </a:solidFill>
          <a:ln w="3240">
            <a:solidFill>
              <a:srgbClr val="e5fc3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DIFET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RICHIEDE UNANIMITA’, (NELLE DECISIONI POSSONO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RISENTIRNE EFFICACIA ED EFFICIENZ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L’ASSENZA DI LEADERSHIP PUO’ GENERARE DISPERSIONE (OGNUNO CAMBIA ARGOMENTO QUANDO VUO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564000" y="6613560"/>
            <a:ext cx="20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Giovanni Pontara – CSA Ver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492360" y="6613560"/>
            <a:ext cx="2089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"/>
              </a:rPr>
              <a:t>Giovanni Pontara – CSA Vero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2T14:43:47Z</dcterms:created>
  <dc:creator>CSA</dc:creator>
  <dc:description/>
  <dc:language>en-US</dc:language>
  <cp:lastModifiedBy>Giovanni Pontara</cp:lastModifiedBy>
  <dcterms:modified xsi:type="dcterms:W3CDTF">2006-05-23T09:34:31Z</dcterms:modified>
  <cp:revision>39</cp:revision>
  <dc:subject/>
  <dc:title>Diapositiva 1</dc:title>
</cp:coreProperties>
</file>