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hoosh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3267-4EEC-40D8-B7E3-8FD1E17E0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07B-50B9-42F4-BA2F-93A047F64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02A-32DB-4354-9999-5A37D91F4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2285B-58A7-4FE1-B6B3-ADDA1111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A170-586F-4115-AEFE-6C08EDC77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A459-FFD4-4619-AC53-546DFFA3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AE71-B662-45A3-8DCB-46CEBF9C0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341D-5A4B-44FA-8680-3FD36E1A4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250A-447E-493C-9C11-BB83EC058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F981-4948-41E9-B8A2-DB357C06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34C3-266E-4272-BA07-4256EA1E1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2F8A9-E079-4016-84C7-79EE1F810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07486-BB24-4648-A9ED-03602AEA03E3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53779-32FA-44CD-8988-5B98A5E2744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1371600"/>
            <a:ext cx="86104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UPPO4 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ROGETTO 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ENITORI E SCUOLA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PARTECIPANTI n.31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PROVINCE n.21 </a:t>
            </a:r>
            <a:br>
              <a:rPr sz="4000"/>
            </a:b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REGIONI n.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80880" y="22860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SEMINARIO INTERREGIONALE “GENITORI E SCUOLA” DESENZANO DEL GARDA 25-26.02.200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D755-34A8-4477-B794-A1DC214926EC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3FBAF2-74DF-4B68-AA26-48FBA2A55F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ff"/>
                </a:solidFill>
                <a:latin typeface="Arial"/>
              </a:rPr>
              <a:t>CONOSCENZA RECIPROCA E NARRAZIONE DI ESPERIENZ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INISELLO B.: MUSICA A SCUOLA – DA UN PREMIO AD UN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RESCIA: FAMIGLIA DA UTENTE A RISO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CORTINA: LA SCUOLA D’E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BANIA: SCUOLA TERRITORIO – MINI GUIDE AL MUS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BERGAMO: COSTRUIAMO UN PARCO GIOCH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ONA: GENITORI IN FORMAZIONE – MONIP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VEROLANUOVA BS: PROGETTO ANDREA –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UMANIZZAZIONE DELLA SCUOLA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5A53-73BE-49D8-8DCD-DA34A793E55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4B853A-9DEC-4479-805B-08DAB95AA5F7}" type="datetime1">
              <a:rPr lang="en-US"/>
              <a:t>07/28/26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300" fill="hold"/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" fill="hold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300" fill="hold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300" fill="hold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300" fill="hold"/>
                                        <p:tgtEl>
                                          <p:spTgt spid="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PUNTI DI FORZ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81532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OPERAZIONE FAMIGLI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NALZAMENTO QUALITA’ DELL’APPRENDIM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BENESSERE 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RECUPERO ABBANDONO DISAG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MIGLIORAMENTO RAPPORTO SCUOLA E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2C4B-A47A-4773-8AA7-CADF9423D19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5D5F3-5078-4C2D-B8E6-4203D19051A6}" type="datetime1">
              <a:rPr lang="en-US"/>
              <a:t>07/28/26</a:t>
            </a:fld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15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PUNTI DI CRITICITA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ARSO COINVOLGIMENTO GENITO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NON ACCOGLIENZA DA PARTE DELLA SCUO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NSUFFICIENTE CONOSCENZA DELLE OPPORTUNITA’ NORM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ECCESSIVA DISCREZIONALITA’ DEI DIRIGEN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211-737D-4BB2-8AFB-18A783BAF63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6AE480-EE83-45D0-B365-E67AD9D757A7}" type="datetime1">
              <a:rPr lang="en-US"/>
              <a:t>07/28/26</a:t>
            </a:fld>
          </a:p>
        </p:txBody>
      </p: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STRATEGIE D’ INTERV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914040"/>
            <a:ext cx="76960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FORMAZIONE-FORMAZIONE RIVOLTE A:GENITORI, PRESIDENTI CONSIGLI  D’ISTITUTO, DI CIRCOLO E DIRIGENT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TABILIRE COLLEGAMENTI CON ALTRE ASSOCIAZIONI E GRUPPI GENITO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MONITORAGGIO DEI PROGETTI IN A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ORGANIZZAZIONE GIORNATA EUROP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DIFFUSIONE INTERNET DELLE MIGLIORI PRATI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14D4-7CA1-4E16-94F4-45C3712E5FB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A9EF44-18C9-4DD8-9FA8-D993F89A4599}" type="datetime1">
              <a:rPr lang="en-US"/>
              <a:t>07/28/26</a:t>
            </a:fld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83908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ff"/>
                </a:solidFill>
                <a:latin typeface="Arial"/>
              </a:rPr>
              <a:t>MODALITA’ OPERA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DARE PRIMA DI CHIED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VALORIZZARE QUELLI CHE PARTECIPA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POTENZIARE LA FUNZIONE DEGLI ORGANI COLLEGI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SCUOLA: PUNTO DI RITROVO E FORMAZIONE PERMAN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7C18-8AAC-4955-AF3A-178EF199CDE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04C422-69FD-44D0-9EB6-52094002E407}" type="datetime1">
              <a:rPr lang="en-US"/>
              <a:t>07/28/26</a:t>
            </a:fld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15228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ff"/>
                </a:solidFill>
                <a:latin typeface="Arial"/>
              </a:rPr>
              <a:t>PROPOSTE ALL’AMMINISTRAZIO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PRIRE LE PORTE DELLA SCUOLA  AGLI STUDENTI, AI GENITORI E AL TERRITO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CON PRECISE NORME, CON RISORSE ADEGUATE, CON ESPERIENZE COME IL SEMINARIO ODIER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CB540-49CA-4374-AE3E-F87F316F69F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92AB66-485E-4BC6-A59E-E9120AA9AC78}" type="datetime1">
              <a:rPr lang="en-US"/>
              <a:t>07/28/26</a:t>
            </a:fld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C</cp:lastModifiedBy>
  <dcterms:modified xsi:type="dcterms:W3CDTF">2005-02-26T10:18:30Z</dcterms:modified>
  <cp:revision>8</cp:revision>
  <dc:subject/>
  <dc:title>Presentazione di PowerPoint</dc:title>
</cp:coreProperties>
</file>