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EA0-4F92-45E5-860F-1108F4AF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09E2-50D3-41DC-993D-A074AE7B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9381-AB66-49DF-BB65-116A7DA6A0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DBC6-7924-4F69-AEB6-7A8FBB1C7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72F8-C9E1-400D-91E0-371D9944E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CE0A-1A5C-4E3F-8593-C2AF65836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C228-A3FB-4EEB-8127-D3552C92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4D03-E38B-4F7D-9061-6D029975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D055-07A9-4C7C-845A-6925BBF7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7DB8-4504-477B-B44C-50467F64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B735-6147-42EC-8C94-D377970F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F60C3-BBE8-4630-8A4F-919DF5CF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575D-4788-4A6D-A2D7-001A6021BFE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GRUPPO 2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EGNANTE TUTOR E PIANI DI STUDIO PERSONALIZZAT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iani di studio personalizzati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aggioranza ha espresso consenso sull’impianto pedagogico dei PSP e, in particolare, sulla centralità della persona e sul ruolo della famig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o state espresse preoccupazioni di due tipi: sulla applicabilità nel contesto attuale della scuola italiana e sulle possibili conseguenze negative di una eccessiva differenziazione dei percorsi (livelli diversi di preparazio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 ovviare a questi rischi si è suggerito di promuovere specifiche attività di formazione e di intervenire con puntualizzazioni di tipo tecnico-organizzativo da parte degli organi compet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UTOR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E FUNZIONE TUTORIAL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ato un consenso diffuso e, da parte di alcuni, deciso apprezzamen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che a questo proposito, si è ravvisata l’urgenza di definire meglio il contesto organizzativo e le modalità concrete con cui attuare questa funzione, tanto preziosa ma anche  delicata e con margini concreti di rischio se non ben svo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è richiesto che, anche in fase di transizione, si adottino le necessarie misure che consentano ai docenti di assumere al meglio questa funzione e agli altri soggetti di essere parte attiva del process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1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POSTE PER L’ATTUAZIONE DELLA RIFORMA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è osservato come una riforma così complessa, che modifica così profondamente i precedenti assetti anche culturali, abbia bisogno di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comunicazione chiara, precisa e non retorica, diretta alle varie componenti (genitori, docenti, alunn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formazione relativa al quadro generale e ai singoli aspetti, che favorisca anche una crescita personale e una assunzione individuale e sociale di responsabilità (per esempio, educazione per adulti, formazione congiunta genitori-docent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ottimizzazione delle risorse finanziarie e professionali disponibili rispetto a questi 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attenzione specifica al consenso ed alla motivazione da parte di chi è chiamato ad attuar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3" dur="500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5T19:52:18Z</dcterms:created>
  <dc:creator>PC</dc:creator>
  <dc:description/>
  <dc:language>en-US</dc:language>
  <cp:lastModifiedBy>PC</cp:lastModifiedBy>
  <dcterms:modified xsi:type="dcterms:W3CDTF">2005-02-26T10:19:14Z</dcterms:modified>
  <cp:revision>2</cp:revision>
  <dc:subject/>
  <dc:title>GRUPPO 2 INSEGNANTE TUTOR E PIANI DI STUDIO PERSONALIZZATI</dc:title>
</cp:coreProperties>
</file>