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97F4-E60B-40A6-9AD0-76E9C53BA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0E87F-8B96-4151-AFEF-B85AD5E11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F9A4-C536-4536-A278-8E03D864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DA63-2530-471D-BE67-5337D420DD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47DCF-8F82-44D8-BF17-D9721491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5DFDC-8E81-4AA8-9669-0290BCAC2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55A0-9E83-4A88-BF34-101F6E7AF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888B3-74A5-4FE9-A5AB-2282D58E2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896E-127E-4995-815E-DFF6D80AC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03D63-8F06-4AC0-9722-CA4C6AB4E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414F7-45A1-4650-A8D3-043976A3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88A6B-9D2E-4F89-BAB0-90141ED9B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90945-C457-42D4-9A73-8C9C9BC16F3A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Book Antiqua"/>
              </a:rPr>
              <a:t>MARATEA, 10-11 GIUGNO 200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UPPO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EGNANTE TUTOR E PIANI DI STUDIO PERSONALIZZ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SEGNANTE TUTOR E PIANI DI STUDIO PERSONALIZZ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gruppo ha apprezza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mpostazione culturale della riforma, che riconosce e valorizza la centralità della persona per la sua unicità e irripetibilità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riconoscimento del fondamentale ruolo educativo della famiglia e la valorizzazione della collaborazione famiglia-scuol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passaggio dalla “persona per i saperi” al “sapere per la persona”, anche come risposta alla richiesta di senso da parte dei giovan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a personalizzazione educativa, che si avvale anche della differenziazione degli interventi e della collegialità nell’operato dei docenti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l’introduzione della figura del tut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EGNANTE TUTOR E PIANI DI STUDIO PERSONALIZZA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Il grupp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chiede garanzie sulle caratteristiche umane e professionali, sulla formazione specifica, sulle condizioni di esercizio del tut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uspica, nell’apprezzare iniziative come il seminario odierno, un impegno importante, costante e continuativo da parte del Ministero, mirato alla formazione e alla partecipazione responsabile delle famigli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si propone la realizzazione di progetti pilota, anche attraverso la valorizzazione di esperienze educative già consolida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Alcuni hanno manifestato l’opinione che l’attuazione di questa riforma potrebbe essere agevolata attraverso una concreta  attuazione della libertà di scelta educa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1T16:21:33Z</dcterms:created>
  <dc:creator>Asus</dc:creator>
  <dc:description/>
  <dc:language>en-US</dc:language>
  <cp:lastModifiedBy>Marina</cp:lastModifiedBy>
  <dcterms:modified xsi:type="dcterms:W3CDTF">2005-06-15T12:03:08Z</dcterms:modified>
  <cp:revision>2</cp:revision>
  <dc:subject/>
  <dc:title>MARATEA, 10-11 GIUGNO 2005</dc:title>
</cp:coreProperties>
</file>