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3F1D-3C31-4108-A976-67C3380C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4A79-0F01-4CAA-943A-633A321EF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79A4-ACA5-4819-8A32-88153094D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9DBE-0A6F-4C62-8841-D16E9D678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28081-AF54-432E-A640-4AF72EEA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EA1D3-1B60-4063-B4ED-7D2C837D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E0AB-BB88-42F3-B178-771305BF8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7F80E-9388-4B4D-B139-FB7BDDF32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43D8E-C214-45A9-9BAE-50A7C38C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5D9F-C146-43B8-9ACE-DADB0C40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45C84-E217-4C3D-87C9-82FB02821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7F89B-0836-40CD-AC7D-018B6F29D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34F1B-CAA4-4ADA-86A5-D7EF983D1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C24C-B250-439C-87C8-8186D0A8F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28289-FBE6-4F31-B169-AB8FE462C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D9AE5-333E-4F2C-8902-782EAB798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90D82-D8F4-49DF-922C-03530E33B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1B516-1479-4F0F-9F1B-5919D492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2112-3DBE-458E-8945-21FDE525D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2935-5BE8-43AB-A681-D6551105F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16391-A4B1-41EC-84E6-A26565D4A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C133-D6D2-4DCD-B64B-CF8B28D7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AF973-C315-405F-8F44-771131B0D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3738C-9E9D-450F-BC83-BD416684F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D6480-AFB0-4DB1-86CC-BE056DCAC231}" type="slidenum">
              <a:rPr b="0" lang="it-IT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F0FF-3CB5-4AEF-BB3D-AE680DF0F540}" type="slidenum">
              <a:rPr b="0" lang="it-IT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539640" y="765000"/>
            <a:ext cx="8604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3300"/>
                </a:solidFill>
                <a:latin typeface="Bradley Hand ITC"/>
              </a:rPr>
              <a:t>                           </a:t>
            </a:r>
            <a:r>
              <a:rPr b="1" lang="it-IT" sz="4000" spc="-1" strike="noStrike">
                <a:solidFill>
                  <a:srgbClr val="ff3300"/>
                </a:solidFill>
                <a:latin typeface="Bradley Hand ITC"/>
              </a:rPr>
              <a:t>QUARTO GRUPPO</a:t>
            </a:r>
            <a:r>
              <a:rPr b="1" lang="it-IT" sz="4000" spc="-1" strike="noStrike">
                <a:solidFill>
                  <a:srgbClr val="006699"/>
                </a:solidFill>
                <a:latin typeface="Bradley Hand ITC"/>
              </a:rPr>
              <a:t>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ff00"/>
                </a:solidFill>
                <a:latin typeface="Bradley Hand ITC"/>
              </a:rPr>
              <a:t>PROGETTI “GENITORI E SCUOLA”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971640" y="2133720"/>
            <a:ext cx="72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Bradley Hand ITC"/>
              </a:rPr>
              <a:t>RUOLO E VISIBILITÀ DEI FORUM PROVINCIALI E COMPLETAMENTO DELLA RETE DEI FORUM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260280"/>
            <a:ext cx="2016000" cy="151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16000" y="2708280"/>
            <a:ext cx="633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Bradley Hand ITC"/>
              </a:rPr>
              <a:t>ASSUNZIONE DI RESPONSABILITÀ DEI COMPONENTI DEL FORUM NELLE DIVERSE FUNZION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250920" y="620640"/>
            <a:ext cx="237636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050920" cy="1008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84360" y="1125360"/>
            <a:ext cx="763092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Bradley Hand ITC"/>
              </a:rPr>
              <a:t>COINVOLGIMENTO DEI GENITORI CON INFORMAZIONI ATTRAVERSO CANALI ISTITUZIONALI E MULTIMEDIALI RELATIVI ALLE OPPURTUNITÀ CONCESSE DALLE DISPOSIZIONI NORMATIVE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476360" y="1557360"/>
            <a:ext cx="6696000" cy="46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Bradley Hand ITC"/>
              </a:rPr>
              <a:t>RICADUTA SUL TERRITORIO: 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Bradley Hand ITC"/>
              </a:rPr>
              <a:t>INCONTRI FORMATIVI ED INFORMATIVI CON I REFERENTI DEGLI ORGANI COLLEGIALI ( GENITORI )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2592360" cy="13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32000" y="1773360"/>
            <a:ext cx="64818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Bradley Hand ITC"/>
              </a:rPr>
              <a:t>MONITORAGGIO TERRITORIALE DELLE AZIONI PROMOSSE E DEI PROGETTI IN CORSO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476280"/>
            <a:ext cx="2879640" cy="12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908000" y="2133720"/>
            <a:ext cx="5761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99"/>
                </a:solidFill>
                <a:latin typeface="Bradley Hand ITC"/>
              </a:rPr>
              <a:t>BANCA DATI DEI PROGETTI PIÙ SIGNIFICATIVI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11280" y="333360"/>
            <a:ext cx="2665440" cy="144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9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42920" y="333360"/>
            <a:ext cx="727236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006699"/>
                </a:solidFill>
                <a:latin typeface="Bradley Hand ITC"/>
              </a:rPr>
              <a:t>I GENITORI  DEL FoPAGS, ATTRAVERSO LE ASSOCIAZIONI, SI PONGONO COME OBIETTIVO DI FUNGERE DA SPORTELLO PER RACCOGLIERE E MONITORARE LE ESIGENZE PER DISCUTERLE CON LE ISTITUZIONI COMPETENTI.</a:t>
            </a:r>
            <a:endParaRPr b="0" lang="en-US" sz="40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380880"/>
            <a:ext cx="82440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2857680" cy="12380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292720" y="3573360"/>
            <a:ext cx="1619280" cy="486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4360" y="5157720"/>
            <a:ext cx="7334280" cy="952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 txBox="1"/>
          <p:nvPr/>
        </p:nvSpPr>
        <p:spPr>
          <a:xfrm>
            <a:off x="1447920" y="3962520"/>
            <a:ext cx="63435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AZIE E BUON LAVORO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0000ff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0T17:40:22Z</dcterms:created>
  <dc:creator>Dott. V. Maurici</dc:creator>
  <dc:description/>
  <dc:language>en-US</dc:language>
  <cp:lastModifiedBy>Marina</cp:lastModifiedBy>
  <dcterms:modified xsi:type="dcterms:W3CDTF">2005-06-15T12:08:20Z</dcterms:modified>
  <cp:revision>38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