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3FD0E-C92B-48B5-8903-D4F70BE9C1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2F661-F74F-4DC2-88FF-EEBA3C9E0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320BE-6298-42DC-8CAD-D030CC36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B881-491D-4832-A55B-95915F550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26C4E-1699-4691-AABD-03801CB3E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67564-7506-408B-A748-8EDB8A7AB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5B35C-9C65-49B4-88F6-A1C9EFE41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BA7D-4AF9-4B09-9542-FD299AA4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B2D3-0074-4679-8A2A-025DAAFD2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C472-3EB4-4B7A-BB04-725888F98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4A78D-6C04-48BA-AEB9-15C8194B3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235E-CCC5-4701-8519-ACDB0606F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9F09-5587-4BA4-9194-C2B194416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41095-3E1F-44C6-AFD7-FF850660D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55842-5DD8-49F6-8271-68FAE7A7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21F5B-5EC0-49E9-8A6E-AC02B781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D430-32E2-4AE0-9122-8FE7B22E5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1E5B5-55CF-40E4-87BC-4F187267D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3750-68DF-4C53-AE36-F7BED480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3610-75B0-49FC-8293-615BC954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77FD-36C5-4CFB-A9AA-B7B17D2CD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E23E1-906B-4DEA-A738-4375BE2D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970A-D836-42BE-A819-32807CD21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E1935-E698-4C0D-9121-C00EE403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6FBF3-A3AC-48E3-916B-04C5F479B001}" type="slidenum">
              <a:rPr b="0" lang="it-IT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66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66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666699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BF77-885A-456C-ABC4-412ADC493B36}" type="slidenum">
              <a:rPr b="0" lang="it-IT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666699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171720"/>
            <a:ext cx="7772400" cy="30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Gruppo di lavoro sul Portfolio delle competenze</a:t>
            </a:r>
            <a:endParaRPr b="0" lang="en-US" sz="4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1" name=""/>
          <p:cNvSpPr/>
          <p:nvPr/>
        </p:nvSpPr>
        <p:spPr>
          <a:xfrm>
            <a:off x="539640" y="393372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Maratea 10-11 giugno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914040" y="2060280"/>
            <a:ext cx="7402680" cy="32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 portfolio nel nuovo quadro teorico e normativo della Rifor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 portfolio nelle esperienze dei genitori: cosa è/non è arrivato alle famiglie al termine di questo anno scolastic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i spazi possibili di lavor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um dei Genitori e Portfolio delle competenz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950760" y="352440"/>
            <a:ext cx="7150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84360" y="260280"/>
            <a:ext cx="76327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li elementi di riflession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l gruppo di lavo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Il quadro di riferimento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989000"/>
            <a:ext cx="8218440" cy="34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 nuovi documenti nazionali: progettare per promuovere le competenze personal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l portfolio come strumento per documentare la progressione personale dell’alunn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i spazi della cooperazione genitori-scuol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1735560" y="1126800"/>
            <a:ext cx="5607360" cy="5488920"/>
            <a:chOff x="1735560" y="1126800"/>
            <a:chExt cx="5607360" cy="5488920"/>
          </a:xfrm>
        </p:grpSpPr>
        <p:sp>
          <p:nvSpPr>
            <p:cNvPr id="98" name="_s16388"/>
            <p:cNvSpPr/>
            <p:nvPr/>
          </p:nvSpPr>
          <p:spPr>
            <a:xfrm>
              <a:off x="3391200" y="1150560"/>
              <a:ext cx="2291400" cy="2291400"/>
            </a:xfrm>
            <a:custGeom>
              <a:avLst/>
              <a:gdLst>
                <a:gd name="textAreaLeft" fmla="*/ 0 w 2291400"/>
                <a:gd name="textAreaRight" fmla="*/ 2291760 w 2291400"/>
                <a:gd name="textAreaTop" fmla="*/ 0 h 2291400"/>
                <a:gd name="textAreaBottom" fmla="*/ 2291760 h 229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9f6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6389"/>
            <p:cNvSpPr/>
            <p:nvPr/>
          </p:nvSpPr>
          <p:spPr>
            <a:xfrm rot="3060000">
              <a:off x="4528440" y="1698480"/>
              <a:ext cx="2291400" cy="2291760"/>
            </a:xfrm>
            <a:custGeom>
              <a:avLst/>
              <a:gdLst>
                <a:gd name="textAreaLeft" fmla="*/ 0 w 2291400"/>
                <a:gd name="textAreaRight" fmla="*/ 2291760 w 2291400"/>
                <a:gd name="textAreaTop" fmla="*/ 0 h 2291760"/>
                <a:gd name="textAreaBottom" fmla="*/ 2292120 h 229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6390"/>
            <p:cNvSpPr/>
            <p:nvPr/>
          </p:nvSpPr>
          <p:spPr>
            <a:xfrm rot="6180000">
              <a:off x="4810680" y="2930040"/>
              <a:ext cx="2291760" cy="2291760"/>
            </a:xfrm>
            <a:custGeom>
              <a:avLst/>
              <a:gdLst>
                <a:gd name="textAreaLeft" fmla="*/ 0 w 2291760"/>
                <a:gd name="textAreaRight" fmla="*/ 2292120 w 2291760"/>
                <a:gd name="textAreaTop" fmla="*/ 0 h 2291760"/>
                <a:gd name="textAreaBottom" fmla="*/ 2292120 h 229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16391"/>
            <p:cNvSpPr/>
            <p:nvPr/>
          </p:nvSpPr>
          <p:spPr>
            <a:xfrm rot="9240000">
              <a:off x="4022640" y="3919680"/>
              <a:ext cx="2291400" cy="2291760"/>
            </a:xfrm>
            <a:custGeom>
              <a:avLst/>
              <a:gdLst>
                <a:gd name="textAreaLeft" fmla="*/ 0 w 2291400"/>
                <a:gd name="textAreaRight" fmla="*/ 2291760 w 2291400"/>
                <a:gd name="textAreaTop" fmla="*/ 0 h 2291760"/>
                <a:gd name="textAreaBottom" fmla="*/ 2292120 h 229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16392"/>
            <p:cNvSpPr/>
            <p:nvPr/>
          </p:nvSpPr>
          <p:spPr>
            <a:xfrm rot="12360000">
              <a:off x="2759040" y="3919680"/>
              <a:ext cx="2291400" cy="2291760"/>
            </a:xfrm>
            <a:custGeom>
              <a:avLst/>
              <a:gdLst>
                <a:gd name="textAreaLeft" fmla="*/ 0 w 2291400"/>
                <a:gd name="textAreaRight" fmla="*/ 2291760 w 2291400"/>
                <a:gd name="textAreaTop" fmla="*/ 0 h 2291760"/>
                <a:gd name="textAreaBottom" fmla="*/ 2292120 h 229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_s16393"/>
            <p:cNvSpPr/>
            <p:nvPr/>
          </p:nvSpPr>
          <p:spPr>
            <a:xfrm rot="15420000">
              <a:off x="1971000" y="2931840"/>
              <a:ext cx="2291400" cy="2291760"/>
            </a:xfrm>
            <a:custGeom>
              <a:avLst/>
              <a:gdLst>
                <a:gd name="textAreaLeft" fmla="*/ 0 w 2291400"/>
                <a:gd name="textAreaRight" fmla="*/ 2291760 w 2291400"/>
                <a:gd name="textAreaTop" fmla="*/ 0 h 2291760"/>
                <a:gd name="textAreaBottom" fmla="*/ 2292120 h 2291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_s16394"/>
            <p:cNvSpPr/>
            <p:nvPr/>
          </p:nvSpPr>
          <p:spPr>
            <a:xfrm rot="18540000">
              <a:off x="2251800" y="1698480"/>
              <a:ext cx="2291400" cy="2291400"/>
            </a:xfrm>
            <a:custGeom>
              <a:avLst/>
              <a:gdLst>
                <a:gd name="textAreaLeft" fmla="*/ 0 w 2291400"/>
                <a:gd name="textAreaRight" fmla="*/ 2291760 w 2291400"/>
                <a:gd name="textAreaTop" fmla="*/ 0 h 2291400"/>
                <a:gd name="textAreaBottom" fmla="*/ 2291760 h 2291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298" y="17982"/>
                  </a:moveTo>
                  <a:arcTo wR="-7200" hR="-7200" stAng="5640000" swAng="-1260000"/>
                  <a:lnTo>
                    <a:pt x="7642" y="472"/>
                  </a:lnTo>
                  <a:arcTo wR="10800" hR="10800" stAng="-6420000" swAng="1260000"/>
                  <a:lnTo>
                    <a:pt x="11742" y="-2667"/>
                  </a:lnTo>
                  <a:lnTo>
                    <a:pt x="15917" y="2136"/>
                  </a:lnTo>
                  <a:lnTo>
                    <a:pt x="11114" y="6311"/>
                  </a:lnTo>
                  <a:close/>
                </a:path>
              </a:pathLst>
            </a:custGeom>
            <a:solidFill>
              <a:srgbClr val="a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16395"/>
            <p:cNvSpPr/>
            <p:nvPr/>
          </p:nvSpPr>
          <p:spPr>
            <a:xfrm>
              <a:off x="5136840" y="1126800"/>
              <a:ext cx="896760" cy="8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Indicazio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Nazional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_s16396"/>
            <p:cNvSpPr/>
            <p:nvPr/>
          </p:nvSpPr>
          <p:spPr>
            <a:xfrm>
              <a:off x="6445440" y="2765520"/>
              <a:ext cx="897480" cy="8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ian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ll’Offert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mativ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16397"/>
            <p:cNvSpPr/>
            <p:nvPr/>
          </p:nvSpPr>
          <p:spPr>
            <a:xfrm>
              <a:off x="3042000" y="1129320"/>
              <a:ext cx="897480" cy="8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filo educativo,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ulturale 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rofessiona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_s16398"/>
            <p:cNvSpPr/>
            <p:nvPr/>
          </p:nvSpPr>
          <p:spPr>
            <a:xfrm>
              <a:off x="5978520" y="4808880"/>
              <a:ext cx="896760" cy="8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LLIEVI: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Obiettiv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Formativ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16399"/>
            <p:cNvSpPr/>
            <p:nvPr/>
          </p:nvSpPr>
          <p:spPr>
            <a:xfrm>
              <a:off x="4091760" y="5718960"/>
              <a:ext cx="896760" cy="89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Unità di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Apprendiment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_s16400"/>
            <p:cNvSpPr/>
            <p:nvPr/>
          </p:nvSpPr>
          <p:spPr>
            <a:xfrm>
              <a:off x="2202480" y="4811040"/>
              <a:ext cx="897480" cy="8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iani d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Studio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ersonalizzat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_s16401"/>
            <p:cNvSpPr/>
            <p:nvPr/>
          </p:nvSpPr>
          <p:spPr>
            <a:xfrm>
              <a:off x="1735560" y="2767680"/>
              <a:ext cx="897480" cy="89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Portfoli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Del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competenz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1835280" y="189000"/>
            <a:ext cx="5473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 CIRCOLARITA’ DEL PROCESSO FORMATIV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Documents"/>
          <p:cNvSpPr/>
          <p:nvPr/>
        </p:nvSpPr>
        <p:spPr>
          <a:xfrm>
            <a:off x="2816280" y="1916280"/>
            <a:ext cx="2116080" cy="2881080"/>
          </a:xfrm>
          <a:prstGeom prst="pie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Document"/>
          <p:cNvSpPr/>
          <p:nvPr/>
        </p:nvSpPr>
        <p:spPr>
          <a:xfrm>
            <a:off x="7540560" y="333360"/>
            <a:ext cx="1352520" cy="1809720"/>
          </a:xfrm>
          <a:prstGeom prst="pie">
            <a:avLst/>
          </a:prstGeom>
          <a:solidFill>
            <a:srgbClr val="00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s"/>
          <p:cNvSpPr/>
          <p:nvPr/>
        </p:nvSpPr>
        <p:spPr>
          <a:xfrm>
            <a:off x="324000" y="1989000"/>
            <a:ext cx="2160360" cy="2952720"/>
          </a:xfrm>
          <a:prstGeom prst="pi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314784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zione valut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89360" y="31464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zione orientat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260280"/>
            <a:ext cx="432108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 struttura del Portfol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Comprend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una sezione dedicata alla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valutazione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 un’altra riservata all’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orientamen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2200" y="5126040"/>
            <a:ext cx="2305080" cy="16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zione redatta sulla base degli indirizzi generali circa la valutazione  degli alunni e il riconoscimento dei crediti e debiti formativ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27280" y="5156280"/>
            <a:ext cx="2952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 dimensioni valutativa e orientativa si intrecciano per permettere di scoprire le capacità potenziali personali indispensabili per decidere un proprio futuro progetto di vit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Document"/>
          <p:cNvSpPr/>
          <p:nvPr/>
        </p:nvSpPr>
        <p:spPr>
          <a:xfrm>
            <a:off x="5956200" y="1332000"/>
            <a:ext cx="1352520" cy="1809720"/>
          </a:xfrm>
          <a:prstGeom prst="pie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ocument"/>
          <p:cNvSpPr/>
          <p:nvPr/>
        </p:nvSpPr>
        <p:spPr>
          <a:xfrm>
            <a:off x="5940360" y="3419640"/>
            <a:ext cx="1352520" cy="1809720"/>
          </a:xfrm>
          <a:prstGeom prst="pi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Document"/>
          <p:cNvSpPr/>
          <p:nvPr/>
        </p:nvSpPr>
        <p:spPr>
          <a:xfrm>
            <a:off x="7540560" y="2627280"/>
            <a:ext cx="1352520" cy="1809720"/>
          </a:xfrm>
          <a:prstGeom prst="pie">
            <a:avLst/>
          </a:prstGeom>
          <a:solidFill>
            <a:srgbClr val="66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ocument"/>
          <p:cNvSpPr/>
          <p:nvPr/>
        </p:nvSpPr>
        <p:spPr>
          <a:xfrm>
            <a:off x="7540560" y="4859280"/>
            <a:ext cx="1352520" cy="180972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40360" y="170028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teriali prodotti dall’alliev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524720" y="71280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 scolastiche significa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416720" y="2944800"/>
            <a:ext cx="161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sservazioni sui metodi di apprendi-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96000" y="549360"/>
            <a:ext cx="12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Contie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380844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enti su lavori persona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96360" y="5249880"/>
            <a:ext cx="136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zioni su attitudini e interess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2133360"/>
            <a:ext cx="82072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fascicolo personale dell’alunn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piano di studi personalizzat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contenitore delle verifiche dell’alunno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“album dei ricordi” personali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documentazione di insuccessi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questionari di indagine sulla famigli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90000"/>
              </a:lnSpc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portfolio giudican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539640" y="549360"/>
            <a:ext cx="799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sa “non è” il Portfolio delle competenz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860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Il Portfolio delle competenze è:</a:t>
            </a:r>
            <a:endParaRPr b="0" lang="en-US" sz="40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8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costruzione intenzionale e documentata del percorso formativo compiuto, sulla base del progetto educativo unitario del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cuol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e della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famiglia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 per raggiungere il “dover essere” espresso nel Profilo, così come è stato assunto nel Pof della propria scuola</a:t>
            </a:r>
            <a:r>
              <a:rPr b="0" lang="en-US" sz="2800" spc="-1" strike="noStrike">
                <a:solidFill>
                  <a:srgbClr val="0066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Nodi problematici</a:t>
            </a:r>
            <a:endParaRPr b="0" lang="en-US" sz="44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oltà di trovare luoghi reali e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leali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i cooperazione genitori-scuola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oltà di coinvolgimento di famiglie culturalmente e socialmente svantaggiate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azione non sempre adeguata di dirigenti e insegnanti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colo di esagerata frammentazione laddove i vincoli nazionali sono troppo deboli, con il rischio di snaturare l’idea di fondo del documento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ahoma"/>
              </a:rPr>
              <a:t>Le proposte</a:t>
            </a:r>
            <a:endParaRPr b="0" lang="en-US" sz="4800" spc="-1" strike="noStrike">
              <a:solidFill>
                <a:srgbClr val="666699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Il Forum per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nire riferimenti essenziali sul portfolio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are le esperienze di formazione docenti/genitori a livello provincia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re uno spazio per divulgare le buone prassi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nire spazi di discussione, anche virtuali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re e/o potenziare la ret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vorire momenti “istituzionalizzati” di confronto iniziale e in itinere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8T16:50:30Z</dcterms:created>
  <dc:creator>Csavarese</dc:creator>
  <dc:description/>
  <dc:language>en-US</dc:language>
  <cp:lastModifiedBy>Marina</cp:lastModifiedBy>
  <dcterms:modified xsi:type="dcterms:W3CDTF">2005-06-15T12:01:47Z</dcterms:modified>
  <cp:revision>13</cp:revision>
  <dc:subject/>
  <dc:title>Gruppo di lavoro sul portfolio delle competenze  Montecatini 8-9 aprile 2005</dc:title>
</cp:coreProperties>
</file>