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CD7-070B-407B-B85C-794C5ACB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E77-8880-4585-BE54-9D74AD9E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1C0-EC86-489F-90A3-DBC2CA99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B9C-2776-44F5-A0F6-CC24D977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29C-C60B-42E4-85A0-2EA61DC0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3B0-84B0-4766-84E9-DF0368C4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872-4C12-4402-995B-43F0EB14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946-40ED-4BAF-9951-B39AF443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188-A2A4-4A6B-839F-6B137D72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EC5-A778-485A-A6BA-6EE42B7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744-8B8B-4213-A734-6DB5E03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645-9765-436F-A9E2-F8B887E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9BDD-FE14-4DDB-800A-B8B4DFE0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>
                  <a:alpha val="60392"/>
                </a:srgbClr>
              </a:gs>
              <a:gs pos="100000">
                <a:srgbClr val="daa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uppo di lavoro sul portfolio delle compe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933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Montecatini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8-9 april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>
                  <a:alpha val="60392"/>
                </a:srgbClr>
              </a:gs>
              <a:gs pos="100000">
                <a:srgbClr val="daa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040" y="2420640"/>
            <a:ext cx="74026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Quadro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Nodi problema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Linee progett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Forum dei Genitori e Portfolio delle compet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0760" y="352440"/>
            <a:ext cx="715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836640"/>
            <a:ext cx="5975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li elementi di riflessione del gruppo di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>
                  <a:alpha val="60392"/>
                </a:srgbClr>
              </a:gs>
              <a:gs pos="100000">
                <a:srgbClr val="daa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l quadro di rif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Il cambiamento normativo nella legislazione ital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Lo scenario europeo: linee guida della Commi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I nuovi documenti nazionali: progettare per promuovere le competenze pers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Il portfolio come strumento per documentare la progressione personale dell’alu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Gli spazi della cooperazione genitori-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>
                  <a:alpha val="60392"/>
                </a:srgbClr>
              </a:gs>
              <a:gs pos="100000">
                <a:srgbClr val="daa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l Portfolio nelle indicazioni nazio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ff"/>
                </a:solidFill>
                <a:uFillTx/>
                <a:latin typeface="Tahoma"/>
              </a:rPr>
              <a:t>Il </a:t>
            </a:r>
            <a:r>
              <a:rPr b="1" i="1" lang="it-IT" sz="2400" spc="-1" strike="noStrike" u="sng">
                <a:solidFill>
                  <a:srgbClr val="0066ff"/>
                </a:solidFill>
                <a:uFillTx/>
                <a:latin typeface="Tahoma"/>
              </a:rPr>
              <a:t>Portfolio</a:t>
            </a:r>
            <a:r>
              <a:rPr b="1" lang="it-IT" sz="2400" spc="-1" strike="noStrike" u="sng">
                <a:solidFill>
                  <a:srgbClr val="0066ff"/>
                </a:solidFill>
                <a:uFillTx/>
                <a:latin typeface="Tahoma"/>
              </a:rPr>
              <a:t>, con annotazioni sia dei docenti, sia dei genitori, sia, se del caso, dei fanciulli, seleziona in modo accura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Tahoma"/>
              </a:rPr>
              <a:t>materiali prodotti dall’allievo individualmente o in gruppo, capaci di descrivere paradigmaticamente le più spiccate competenze del sogget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Tahoma"/>
              </a:rPr>
              <a:t>prove scolastiche significati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Tahoma"/>
              </a:rPr>
              <a:t>osservazioni dei docenti e della </a:t>
            </a:r>
            <a:r>
              <a:rPr b="1" lang="it-IT" sz="2000" spc="-1" strike="noStrike" u="sng">
                <a:solidFill>
                  <a:srgbClr val="0066ff"/>
                </a:solidFill>
                <a:uFillTx/>
                <a:latin typeface="Tahoma"/>
              </a:rPr>
              <a:t>famiglia</a:t>
            </a:r>
            <a:r>
              <a:rPr b="0" lang="it-IT" sz="2000" spc="-1" strike="noStrike">
                <a:solidFill>
                  <a:srgbClr val="0066ff"/>
                </a:solidFill>
                <a:latin typeface="Tahoma"/>
              </a:rPr>
              <a:t> sui metodi di apprendimento del fanciullo, con la rilevazione delle sue caratteristiche originali  nelle diverse esperienze formative affrontat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Tahoma"/>
              </a:rPr>
              <a:t>commenti su lavori personali ed elaborati significativi, sia scelti dall’allievo (è importante questo coinvolgimento diretto) sia indicati dalla </a:t>
            </a:r>
            <a:r>
              <a:rPr b="1" lang="it-IT" sz="2000" spc="-1" strike="noStrike" u="sng">
                <a:solidFill>
                  <a:srgbClr val="0066ff"/>
                </a:solidFill>
                <a:uFillTx/>
                <a:latin typeface="Tahoma"/>
              </a:rPr>
              <a:t>famiglia</a:t>
            </a:r>
            <a:r>
              <a:rPr b="0" lang="it-IT" sz="2000" spc="-1" strike="noStrike">
                <a:solidFill>
                  <a:srgbClr val="0066ff"/>
                </a:solidFill>
                <a:latin typeface="Tahoma"/>
              </a:rPr>
              <a:t> e dalla scuola, ritenuti esemplificativi delle sue capacità e aspirazioni persona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Tahoma"/>
              </a:rPr>
              <a:t>indicazioni di sintesi che emergono dall’osservazione sistematica, dai colloqui insegnanti-</a:t>
            </a:r>
            <a:r>
              <a:rPr b="1" lang="it-IT" sz="2000" spc="-1" strike="noStrike" u="sng">
                <a:solidFill>
                  <a:srgbClr val="0066ff"/>
                </a:solidFill>
                <a:uFillTx/>
                <a:latin typeface="Tahoma"/>
              </a:rPr>
              <a:t>genitori</a:t>
            </a:r>
            <a:r>
              <a:rPr b="0" lang="it-IT" sz="2000" spc="-1" strike="noStrike">
                <a:solidFill>
                  <a:srgbClr val="0066ff"/>
                </a:solidFill>
                <a:latin typeface="Tahoma"/>
              </a:rPr>
              <a:t>, da colloqui con lo studente  e anche da questionari o test in ordine alle personali attitudini e agli interessi più manife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>
                  <a:alpha val="60392"/>
                </a:srgbClr>
              </a:gs>
              <a:gs pos="100000">
                <a:srgbClr val="daa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fascicolo personale dell’alun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iano di studi personalizza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contenitore delle verifiche dell’alun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album dei ricordi” personal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documentazione di insuccess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questionari di indagine sulla famigli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ortfol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giud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sa “non è” il Portfolio delle competenz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>
                  <a:alpha val="60392"/>
                </a:srgbClr>
              </a:gs>
              <a:gs pos="100000">
                <a:srgbClr val="daa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l Portfolio delle competenze 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ricostruzione intenzionale e documentata del percorso formativo compiuto, sulla base del progetto educativo unitario della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ahoma"/>
              </a:rPr>
              <a:t>scuola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e della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ahoma"/>
              </a:rPr>
              <a:t>famiglia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,  per raggiungere il “dover essere” espresso nel Profilo, così come è stato assunto nel Pof della propria scu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>
                  <a:alpha val="60392"/>
                </a:srgbClr>
              </a:gs>
              <a:gs pos="100000">
                <a:srgbClr val="daa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di problemat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Difficoltà di trovare luoghi reali e leali di cooperazione genitori-scu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Difficoltà di coinvolgimento di famiglie culturalmente e socialmente svantaggi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Formazione non sempre adeguata di dirigenti e insegnan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Pericolo di esagerata frammentazione laddove i vincoli nazionali sono troppo deboli, con il rischio di snaturare l’idea di fondo del doc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>
                  <a:alpha val="60392"/>
                </a:srgbClr>
              </a:gs>
              <a:gs pos="100000">
                <a:srgbClr val="daa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Le propo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Utilizzare il portfolio come strumento per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romuovere una fattiva cooperazione tra genitori e scuol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uperare il divario tra conoscenze-abilità e competenz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eggere la progressione personale dell’alun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>
                  <a:alpha val="60392"/>
                </a:srgbClr>
              </a:gs>
              <a:gs pos="100000">
                <a:srgbClr val="daa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Le propo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Tahoma"/>
              </a:rPr>
              <a:t>Il Forum p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Fornire riferimenti normativi essenziali sul portfoli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Raccogliere esperienze e modelli di portfoli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Dare uno spazio per divulgare le buone prass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Fornire spazi di discussione, anche virtu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6:50:30Z</dcterms:created>
  <dc:creator>Csavarese</dc:creator>
  <dc:description/>
  <dc:language>en-US</dc:language>
  <cp:lastModifiedBy>Csavarese</cp:lastModifiedBy>
  <dcterms:modified xsi:type="dcterms:W3CDTF">2005-04-08T20:00:52Z</dcterms:modified>
  <cp:revision>9</cp:revision>
  <dc:subject/>
  <dc:title>Gruppo di lavoro sul portfolio delle competenze  Montecatini 8-9 aprile 2005</dc:title>
</cp:coreProperties>
</file>