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3E1-69BE-45F5-B25A-794E49F3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3E8-43F6-4B4C-AA5C-8967153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D63-895C-4A91-B961-0A4B9431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1C2-B856-4FDA-9E72-0259697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50B-22A5-463C-B55D-AD53986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931-F31F-4332-9227-6AB7E44F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515-7C81-4348-A3E9-20E75DEB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95E-1963-4C45-BD0C-B061A47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A35-2ECA-49FA-BE55-E19A3A82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686-987B-461E-89AE-EE3A3E04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83A-0F0A-46C1-90B7-C700E78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124-64E8-4B06-89E6-FB06072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54E-8901-4A40-810F-1E47A911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nario Montecatin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april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pp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di valutazione nazionale e miglioramento delle competenze di base degli studenti italiani (Pisa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utoValutazione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 raccordo Valutazione est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sa conoscenza e consapevolezza  da parte della scuola dei risultati inval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ociazione tra valutazione esterna ed in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ore utilizzo dei risultati invalsi per il miglioramento del P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zione dei risultati invalsi a tutti i soggetti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ociare risultati esterni e inte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pet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tribuire alla cultura della valutazi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utazione non sanzionatoria ma come promozione della qu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are atteggiamenti di fiducia reciproca tra genitori e insegn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pet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enitore come facilitatore nella creazione di un clima cooperativo e come sostegno all’impegno dei fig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operta della scuola come valore formativo nella crescita dei cittadini/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g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menti di formazione/informazione, coprogettati, per geni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rendimento scolastico come momento di rielaborazione di sistematizzazione delle competenze infor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zione grup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partecipanti di c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USR e C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geni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dirigenti scolas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valutazione della scu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cc"/>
                </a:solidFill>
                <a:latin typeface="Times New Roman"/>
              </a:rPr>
              <a:t>Valutazione interna stu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cc"/>
                </a:solidFill>
                <a:latin typeface="Times New Roman"/>
              </a:rPr>
              <a:t>Autovalutazione della scu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6600"/>
                </a:solidFill>
                <a:latin typeface="Times New Roman"/>
              </a:rPr>
              <a:t>Valutazione esterna nazionale affidata a Inval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6600"/>
                </a:solidFill>
                <a:latin typeface="Times New Roman"/>
              </a:rPr>
              <a:t>Valutazione esterna internazionale gestita da Invalsi (P.I.S.A. e I.E.A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ame di s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ve stanno i genitori nel sistema di valutazione della scuo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cc"/>
                </a:solidFill>
                <a:latin typeface="Times New Roman"/>
              </a:rPr>
              <a:t>Autovalutazione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6600"/>
                </a:solidFill>
                <a:latin typeface="Times New Roman"/>
              </a:rPr>
              <a:t>Valutazione esterna: valorizzazione dei d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utovalutazione int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F partecipare alla stesura (come e quand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sa attenzione ai contenuti del POF nel processo di 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liorare  il coinvolgimento dei genitori nella preparazione e definizione della stesura P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contributo dei genitori alla valutazione della scuola sulla base dei contenuti del P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zione gruppi qualità interna (genitori compre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ari poco comprensibili e poco efficaci e poco coinvolg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aggi troppo tecnici per i gen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solo crocet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licitare le si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ari condivisi tra i componenti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nde riguardanti il livello e la qualità della partecipazione dei gen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riflessioni in gr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utoValutazione int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ca attenzione al monitoraggio dei proget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co collegamento con gli enti territo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re la priorità per importanza e urgenza dei progetti del P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tazione della congruità della spesa di alcuni prog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itori=&gt; ponte tra scuola e terr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tazione est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oltà nella lettura/interpretazione dei risultati inval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cuola unica depositaria dei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re correttamente i risultati alle componenti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50000">
              <a:srgbClr val="ffffff"/>
            </a:gs>
            <a:gs pos="100000">
              <a:srgbClr val="fff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tazione est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are solo in forma autoreferenziale i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tilizzo superficiale “mediatico” dei 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o mirato dei risultati per percorsi di miglio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vorire reti di miglioramento per evitare le competi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7:01:51Z</dcterms:created>
  <dc:creator>Supervisor</dc:creator>
  <dc:description/>
  <dc:language>en-US</dc:language>
  <cp:lastModifiedBy>Supervisor</cp:lastModifiedBy>
  <dcterms:modified xsi:type="dcterms:W3CDTF">2005-04-08T21:05:56Z</dcterms:modified>
  <cp:revision>21</cp:revision>
  <dc:subject/>
  <dc:title>Seminario Montecatini  8 aprile 2005</dc:title>
</cp:coreProperties>
</file>