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DE0-7F3B-4151-8C38-AAB62A2E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E23-A71B-49F8-B0A8-D4090A7F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00D-6133-49AB-BF01-2393610B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283-3E10-46A9-AFED-67F9DB70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714-7142-49AA-95D2-6494DA57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230-09BC-44C2-81DF-C69213E2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63A-CACD-409D-8223-116C93A3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6D9-106C-4E73-9F6C-DF3B3566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C54-4D41-427E-88D7-3B0474B1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132-EB17-4BB4-9525-8FFDC186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DE8-CE58-4540-AE6D-7536345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20A-E9C3-446F-8852-610CBEEE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CC0A-9C21-4311-A904-582496FE399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22840" y="18900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getti finanziati a.s. 2008/09 suddivisi per Reg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549360"/>
          <a:ext cx="7993080" cy="586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7993080" cy="58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7:52:44Z</dcterms:created>
  <dc:creator/>
  <dc:description/>
  <dc:language>en-US</dc:language>
  <cp:lastModifiedBy>mzpk9g</cp:lastModifiedBy>
  <dcterms:modified xsi:type="dcterms:W3CDTF">2008-12-17T16:31:39Z</dcterms:modified>
  <cp:revision>8</cp:revision>
  <dc:subject/>
  <dc:title>Diapositiva 1</dc:title>
</cp:coreProperties>
</file>