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B63-93F9-4F68-97DD-A632B65D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30F-F160-445F-A09A-E8BF033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EA9-9C53-41EA-ACE8-A5A0CFA4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4FC-DF1F-47F0-9FCA-87997E50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853-D733-4AD1-9506-C21F1993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5F7-F071-48B1-9E63-23026A2D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7BB-E8EE-4A04-AFE9-6501BD33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058-0D02-46FE-B2A1-A6FABED7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F45-B776-49AB-82F5-A9A03D48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37E-140E-47F8-A5E2-D3D7140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879-C786-4B7D-9224-979ADD0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4D0-5A57-4BBC-AF28-BD47C90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A8D-06E6-4E42-9665-B43888055A1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5560" y="189000"/>
            <a:ext cx="68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etti finanziati a.s. 2008/09 suddivisi per minoranze lingu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554040"/>
          <a:ext cx="8002440" cy="54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54040"/>
                    <a:ext cx="800244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52:44Z</dcterms:created>
  <dc:creator/>
  <dc:description/>
  <dc:language>en-US</dc:language>
  <cp:lastModifiedBy>mzpk9g</cp:lastModifiedBy>
  <dcterms:modified xsi:type="dcterms:W3CDTF">2008-12-17T16:28:17Z</dcterms:modified>
  <cp:revision>7</cp:revision>
  <dc:subject/>
  <dc:title>Diapositiva 1</dc:title>
</cp:coreProperties>
</file>