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A992-19D4-4595-9AC8-2D09DA1B62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UR – Roma – 7 nov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204-9D0B-4A1F-A9BE-912B24CB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EEB-A627-4425-A4DD-9E502A5A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7DB-E0D1-4DE2-8A43-6712862C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735-38A8-46CB-B3D5-5D75457F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B50-5FE9-464A-8F03-5E21706A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029-8B9D-4382-991B-B011802D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679-0EBE-43EC-BC06-09B18BB7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1D7-881E-4E12-8C4E-E4CCC111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039-2665-41F7-BB76-EB8A5BA6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3BC-F691-403F-BA10-CEBD45F8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373-4576-4B28-8FFA-A04B7F5B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423-5588-4C26-A69C-A2476ABC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5571-E79B-4FF9-8B8D-294261314E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ca nel primo cic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 Olimpiadi di Problem Solv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ché, cosa, come, chi, qu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555-D368-4BB1-85CB-6BBB0A102D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a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ppresentazione strutturata dell’inform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rogazione di tab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perazioni tra insie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blemi primi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DBF-13F5-4B48-A151-2AD29071F6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b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lazioni (non solo di parente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mostrazioni e giustific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composizione di problemi in sottoproble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struzione e descrizione di procedi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BF1-4A4C-4ED7-9072-0CF7F60719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raf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corsi, procedimenti e argomen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ganizzazione e descrizione di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egnazione e utilizzo di ris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anificazione e ottim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AEC-3F8F-40D2-9F61-F46991399D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zare l’accessibilità via Internet per mettere a disposizione un sito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istribuire materiale didattico per orientare, sostenere e stimolare la formazi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sentire sperimentazioni di problem solv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stire le prove ufficiali delle Olimpia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9E1-A74C-47DF-9DE4-471A16FAE8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a scuola deve essere presente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atorio con computer collegati a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unni devono potersi collegare al “sito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dicato a questa inizi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l “sito” potrà essere ospitato anche materi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attico preparato dai singoli docenti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F93-EE43-470A-A0BA-3334BED602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ante l’anno scolastico sarà possibile partecip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erifiche in itinere e a sessioni di allen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tazione della prova, la raccolta d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poste e la relativa valutazione saranno svolt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o automatico da un program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E08-DAA8-4C31-B851-FD99065A09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ti gli interessati, in particol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 ogni scuola è auspicabile la presenza di un docente di riferiment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prospettiva è di coinvolgere docenti e  applicazioni in ogni discip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BAA-D0C8-4F8B-AEF7-22C270A12C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utti gli studen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e desiderano partecip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ranno far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utti i docen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e desiderano contribuir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are i materiali di supporto potran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r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È auspicabile che tutti i docenti si sentano partecipi e autori di questo even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D09-24F1-4AB2-A919-CB6500E5C3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an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ta la pervasività dell’Informatica è auspicab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riservare parte del tempo settimanale per lo studio di “</a:t>
            </a:r>
            <a:r>
              <a:rPr b="1" i="1" lang="it-IT" sz="3200" spc="-1" strike="noStrike">
                <a:solidFill>
                  <a:srgbClr val="000000"/>
                </a:solidFill>
                <a:latin typeface="Century Gothic"/>
              </a:rPr>
              <a:t>Elementi di Informatica</a:t>
            </a: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”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partecipare sistematicamente agli eventi programmati central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34D-F88D-473B-9DB6-1ADBA8462D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an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simi appuntamenti per il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na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perimentazione del sistema (su numero ristretto di scuol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bbra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ue prove sperimentali di allenamento offerte a tutte le scuo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rzo/apr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va per la selezione delle squadre da ammettere alla fase naziona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ile/magg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volgimento della prova nazion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7C5-C5B2-4462-8701-98B668CD25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lla scuola italiana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percezi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lla  Informatica non è adeguata; migliorandola si possono ottenere due risult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ar conoscere l’Informatica come disciplina scientific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ndere più ricco (per gli studenti) l’insieme di conoscenze e competenze per il problem sol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C56-6500-452C-91D3-847456A535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025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computer è più rivoluzionario come idea che 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sieme di servizi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ruolo del saper far far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A mio giudizio, si capisce qualcosa solo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si è capaci – noi e non altri! – di scrivere 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progra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Altrimenti non si ha una vera comprensio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crede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 soltanto di capire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(Gregory Chaitin. Alla ricerca di omega, Adelphi,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DED-B57B-4D81-ABEC-FFFC1E502A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Quo facto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quando orientur controversiae, non mag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disputatione opus erit inter duos philosophos, qu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inter duos computistas. Sufficiet enim calamos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manus sumere sedereque ad abbacos et sibi mutu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(accito si placet amico) dice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lculemus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ibniz: De scientia universalis seu calculo philosophic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B5C-EDE7-45B1-99D8-F274B4FC6D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Olimpiadi di Problem Sol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omic Sans MS"/>
              </a:rPr>
              <a:t>Buon lavoro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E73-62CD-4B97-90F9-B496211915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repar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gli studenti per questo evento 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asione e stimolo per presentare, discutere e f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prend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ioc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 in modo organico) i princip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metodologi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serviz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nessi a questa discipl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’Informatica non è (solo) TIC (o elettrodomestici)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e risulta evidente osservandone la sto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5F1-C837-4FA2-B666-9393A971AA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Informatica non nasce (con il computer) nel decennio 1940 – 1950, per offrire serviz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emerge (dop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a storia durata migliaia di an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me risposta a esigenze di carattere etico, sociale, filosofico, giuridico, economico e (anche) logico matema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nformatica va quindi percepita 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todo concettu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formalizzare e risolvere problemi in ogni camp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FEE-C263-4F69-BA7F-2F6C4ACCA2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Informatica come disciplina autonoma nasce dalla confluenza di due filoni di attivit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 primo è condiviso con filosofi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matematica e log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 secondo è nell’ambito della fisica e dell’ingegn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intesi avviene con la messa a punt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trumenti concettual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i linguaggi di programm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etod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gli algoritmi e la programmazione)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anufatt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l “computer universale” e il “software”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) Del diritto, del linguaggio, della conoscenza, di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717-D9F9-4337-B072-318719AA96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pietre miliari dell’evoluzione dell’Informatica sono riassumibili 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quattro aggettivi: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digitale, effettivo, automatico, intelli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appresentazione e memorizzazione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digitale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ll’informazione, (30000-1000 a.C. 1500 d.C. – ogg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A partire dall’alfabeto per le parole e dalle cifre per i numeri: Ebla, Hammurabi, Iliade, Odissea, Gutenbe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zione di regole esplicite per la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elaborazione effettiva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ll’informazione (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digital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, (VI secolo a.C.-1936-ogg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Retorica, dialettica e logica: da Aristotele e Crisippo a Leibniz, Boole, Frege, Hilbert, Goedel e T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ogettazione e costruzione di sistemi (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computer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 capaci di elaborare l’informazione (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digital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 in modo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(effettiv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automatic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(1822-1945-ogg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Dagli automi meccanici al computer: Ctesibio, Leonardo, Jacquard, Babbage, Zuse e Von Neu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unicazione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lligent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tra interlocutori umani e automatici. (1952 - ogg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Dalla automazione del lavoro d’ufficio alle applicazioni della Intelligenza Artifici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FAF-574A-4488-A9BE-BA496BAC01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 obiet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alla conoscenza alla compet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pe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onoscere l’interlocutore auto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per f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onoscerne le modalità di utilizz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 metodo per raggiung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per far f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apire le sue potenzialità e i suoi limiti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calcolabilità, trattabilità, problem-solving e programmazi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FA5-D236-44BA-B6C5-E28C7D3FE3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e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metodologie e le tecniche di programm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o una bas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ffetti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er costru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enze generali di problem solv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n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strazione, formalizzazione e strutture da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composizione di problemi in sotto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6F5-20C0-4C04-9D64-49B463AB9B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attività proposte hanno come obiettivo la costruzion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etenze (effettive e misurabili) 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rendere e formalizzare problem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coprire e descrivere procedimenti di soluzione (applicabili aicasi in oggett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Far eseguir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” un procedimento e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valutar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il risult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A36-AED8-481D-B592-07E48D89F3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3:46:04Z</dcterms:created>
  <dc:creator/>
  <dc:description/>
  <dc:language>en-US</dc:language>
  <cp:lastModifiedBy>localadmin</cp:lastModifiedBy>
  <dcterms:modified xsi:type="dcterms:W3CDTF">2008-11-13T13:57:43Z</dcterms:modified>
  <cp:revision>59</cp:revision>
  <dc:subject/>
  <dc:title>Informatica nel primo ciclo</dc:title>
</cp:coreProperties>
</file>